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895-1375-4144-B8BB-E92B0AB1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706-B53E-431D-A21D-4D3FE25E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F6A-1C51-495F-8C5B-15C911D1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143-F0C9-486F-B6D1-503E6B3E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4F8-D741-4A02-AB1D-4B04ACCB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DC8-A603-4130-8358-6ED2DD58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FAE-6673-49B6-8BC6-94EE2B88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CAB-DBD2-44DE-8D7B-43DACCD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584-6269-4B59-ACA6-9738ECFC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557-FC99-4F20-A41B-46EA71C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966-90EF-47E6-BD4F-2038133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D3F-B697-46F1-86EA-D7E55ACE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2D46-465A-485C-99CB-BC2E54AD2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warzysz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jd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ww.e-citizen.xn.p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46:52Z</dcterms:created>
  <dc:creator>user</dc:creator>
  <dc:description/>
  <dc:language>en-US</dc:language>
  <cp:lastModifiedBy>user</cp:lastModifiedBy>
  <dcterms:modified xsi:type="dcterms:W3CDTF">2011-03-17T10:46:52Z</dcterms:modified>
  <cp:revision>1</cp:revision>
  <dc:subject/>
  <dc:title>Stowarzyszenie</dc:title>
</cp:coreProperties>
</file>