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ARAT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  <p:custShowLst>
    <p:custShow name="Pokaz 1" id="0">
      <p:sldLst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757E-90C9-4EC0-9731-62FF9277D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B3F0-9E78-4FA7-92C3-67C0FCCE1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B6E1-7821-44B1-A0B5-7336F3C33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4F7E-94D5-4E53-A463-F93F9578F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79A07-E422-4F24-8925-BCFC1C6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BD73A-E04E-4FB3-9963-93CC9FF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FA997-EB37-4149-9E70-0C0E67E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1C8A4-23C3-4BEA-883E-80D28F2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3847-D6CD-488F-9C51-4C2C50E7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702A-EFC5-4FA1-B911-59EC897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2E29-D70D-45E2-B92D-BD06489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C151-B0FB-4344-A944-4DD078E2B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1EB5-C56E-4432-BF1A-78E979D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191A-81D7-4A39-9087-DBA2CC6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98E8-0465-49C8-B7B3-142C0723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F9085-6F90-4443-8E67-D3024C15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8F59-385E-4AE1-9A23-A7491EB2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A478-6774-40D0-971A-1DFBE0430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087F-9972-463B-B23B-C652671AA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D8C4-FBB4-49C8-B0AF-BEB1F189D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E597-8FEB-4E75-B7A8-2FFD924A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D872-A295-4169-ADFD-F536F45AB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4D0A-F8AF-497D-AF59-3B4AAE33F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B6BD-4D61-4BE6-A455-758BC4181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f8f8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58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737373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3"/>
          <p:cNvSpPr/>
          <p:nvPr/>
        </p:nvSpPr>
        <p:spPr>
          <a:xfrm>
            <a:off x="5754600" y="5257800"/>
            <a:ext cx="3389400" cy="6858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>
                  <a:alpha val="50196"/>
                </a:srgbClr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1A6-E4C4-4087-A9AE-B26D3E28E9A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55"/>
          <p:cNvSpPr/>
          <p:nvPr/>
        </p:nvSpPr>
        <p:spPr>
          <a:xfrm flipH="1">
            <a:off x="57189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rc 68"/>
          <p:cNvSpPr/>
          <p:nvPr/>
        </p:nvSpPr>
        <p:spPr>
          <a:xfrm flipV="1">
            <a:off x="6932520" y="-838800"/>
            <a:ext cx="2211480" cy="2361960"/>
          </a:xfrm>
          <a:custGeom>
            <a:avLst/>
            <a:gdLst>
              <a:gd name="textAreaLeft" fmla="*/ 0 w 2211480"/>
              <a:gd name="textAreaRight" fmla="*/ 2211840 w 2211480"/>
              <a:gd name="textAreaTop" fmla="*/ -360 h 2361960"/>
              <a:gd name="textAreaBottom" fmla="*/ 2361960 h 2361960"/>
            </a:gdLst>
            <a:ahLst/>
            <a:rect l="textAreaLeft" t="textAreaTop" r="textAreaRight" b="textAreaBottom"/>
            <a:pathLst>
              <a:path fill="none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</a:path>
              <a:path stroke="0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  <a:lnTo>
                  <a:pt x="20223" y="21599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9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70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71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f8f8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>
                  <a:alpha val="50196"/>
                </a:srgbClr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7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10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Freeform 50"/>
          <p:cNvSpPr/>
          <p:nvPr/>
        </p:nvSpPr>
        <p:spPr>
          <a:xfrm>
            <a:off x="187200" y="404640"/>
            <a:ext cx="7489800" cy="554220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5542200"/>
              <a:gd name="textAreaBottom" fmla="*/ 5542560 h 5542200"/>
            </a:gdLst>
            <a:ahLst/>
            <a:rect l="textAreaLeft" t="textAreaTop" r="textAreaRight" b="textAreaBottom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42"/>
          <p:cNvSpPr/>
          <p:nvPr/>
        </p:nvSpPr>
        <p:spPr>
          <a:xfrm flipH="1">
            <a:off x="58665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B3C9-19EB-48C3-BDE3-0B4CCBC64D7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audio" Target="../media/APARAT.WAV"/><Relationship Id="rId3" Type="http://schemas.openxmlformats.org/officeDocument/2006/relationships/audio" Target="../media/APARAT.WAV"/><Relationship Id="rId4" Type="http://schemas.openxmlformats.org/officeDocument/2006/relationships/audio" Target="../media/APARAT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APARAT.WAV"/><Relationship Id="rId5" Type="http://schemas.openxmlformats.org/officeDocument/2006/relationships/audio" Target="../media/APARA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236000" y="6356520"/>
            <a:ext cx="1908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noAutofit/>
          </a:bodyPr>
          <a:p>
            <a:pPr lvl="1" marL="1144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3BF2-0454-402E-9360-C41B192822C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 Narrow"/>
              </a:rPr>
              <a:t>Przekształcanie wykresów funkcji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na Kar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uczycielka Zespołu Szkół Rolnicze Centrum Kształcenia Ustawicznego w Siedlc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55">
            <a:hlinkClick r:id="" action="ppaction://hlinkshowjump?jump=nextslide"/>
          </p:cNvPr>
          <p:cNvSpPr/>
          <p:nvPr/>
        </p:nvSpPr>
        <p:spPr>
          <a:xfrm>
            <a:off x="1066680" y="5638680"/>
            <a:ext cx="586080" cy="58608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25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ymbol zastępczy numeru slajdu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DCB-6959-4DAE-A8AE-8BF5DB5660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Zadanie 1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Na podstawie danego wykresu funkcji y=f(x) odczytaj następujące jej własności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>
            <a:hlinkClick r:id="" action="ppaction://hlinkshowjump?jump=previousslide"/>
          </p:cNvPr>
          <p:cNvSpPr/>
          <p:nvPr/>
        </p:nvSpPr>
        <p:spPr>
          <a:xfrm>
            <a:off x="22860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12408"/>
                </a:moveTo>
                <a:lnTo>
                  <a:pt x="17806" y="5402"/>
                </a:lnTo>
                <a:lnTo>
                  <a:pt x="17806" y="194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7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59892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 Box 1276"/>
          <p:cNvSpPr/>
          <p:nvPr/>
        </p:nvSpPr>
        <p:spPr>
          <a:xfrm>
            <a:off x="4876920" y="1752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Dziedzin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77"/>
          <p:cNvSpPr/>
          <p:nvPr/>
        </p:nvSpPr>
        <p:spPr>
          <a:xfrm>
            <a:off x="1066680" y="4343400"/>
            <a:ext cx="2525760" cy="1440"/>
          </a:xfrm>
          <a:custGeom>
            <a:avLst/>
            <a:gdLst>
              <a:gd name="textAreaLeft" fmla="*/ 0 w 2525760"/>
              <a:gd name="textAreaRight" fmla="*/ 2526120 w 2525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728" h="1">
                <a:moveTo>
                  <a:pt x="0" y="0"/>
                </a:moveTo>
                <a:lnTo>
                  <a:pt x="1728" y="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78"/>
          <p:cNvSpPr/>
          <p:nvPr/>
        </p:nvSpPr>
        <p:spPr>
          <a:xfrm>
            <a:off x="5105520" y="20574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D=&lt;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4 ; 3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79"/>
          <p:cNvSpPr/>
          <p:nvPr/>
        </p:nvSpPr>
        <p:spPr>
          <a:xfrm>
            <a:off x="487692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biór wart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80"/>
          <p:cNvSpPr/>
          <p:nvPr/>
        </p:nvSpPr>
        <p:spPr>
          <a:xfrm>
            <a:off x="2590920" y="3657600"/>
            <a:ext cx="0" cy="1263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81"/>
          <p:cNvSpPr/>
          <p:nvPr/>
        </p:nvSpPr>
        <p:spPr>
          <a:xfrm>
            <a:off x="5181480" y="28954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W=&lt;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2;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82"/>
          <p:cNvSpPr/>
          <p:nvPr/>
        </p:nvSpPr>
        <p:spPr>
          <a:xfrm>
            <a:off x="48769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Arial"/>
              </a:rPr>
              <a:t>Miejsca zer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287"/>
          <p:cNvGrpSpPr/>
          <p:nvPr/>
        </p:nvGrpSpPr>
        <p:grpSpPr>
          <a:xfrm>
            <a:off x="990720" y="4191120"/>
            <a:ext cx="2438280" cy="228600"/>
            <a:chOff x="990720" y="4191120"/>
            <a:chExt cx="2438280" cy="228600"/>
          </a:xfrm>
        </p:grpSpPr>
        <p:sp>
          <p:nvSpPr>
            <p:cNvPr id="134" name="Oval 1284"/>
            <p:cNvSpPr/>
            <p:nvPr/>
          </p:nvSpPr>
          <p:spPr>
            <a:xfrm>
              <a:off x="317340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85"/>
            <p:cNvSpPr/>
            <p:nvPr/>
          </p:nvSpPr>
          <p:spPr>
            <a:xfrm>
              <a:off x="243828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86"/>
            <p:cNvSpPr/>
            <p:nvPr/>
          </p:nvSpPr>
          <p:spPr>
            <a:xfrm>
              <a:off x="99072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88"/>
          <p:cNvSpPr/>
          <p:nvPr/>
        </p:nvSpPr>
        <p:spPr>
          <a:xfrm>
            <a:off x="5029200" y="358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4   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= 0   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 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89"/>
          <p:cNvSpPr/>
          <p:nvPr/>
        </p:nvSpPr>
        <p:spPr>
          <a:xfrm>
            <a:off x="495288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artości dodat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90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9892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294"/>
          <p:cNvGrpSpPr/>
          <p:nvPr/>
        </p:nvGrpSpPr>
        <p:grpSpPr>
          <a:xfrm>
            <a:off x="1066680" y="4343400"/>
            <a:ext cx="2514600" cy="0"/>
            <a:chOff x="1066680" y="4343400"/>
            <a:chExt cx="2514600" cy="0"/>
          </a:xfrm>
        </p:grpSpPr>
        <p:sp>
          <p:nvSpPr>
            <p:cNvPr id="141" name="Line 1292"/>
            <p:cNvSpPr/>
            <p:nvPr/>
          </p:nvSpPr>
          <p:spPr>
            <a:xfrm>
              <a:off x="1066680" y="4343400"/>
              <a:ext cx="149400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93"/>
            <p:cNvSpPr/>
            <p:nvPr/>
          </p:nvSpPr>
          <p:spPr>
            <a:xfrm>
              <a:off x="3308400" y="4343400"/>
              <a:ext cx="27288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95"/>
          <p:cNvSpPr/>
          <p:nvPr/>
        </p:nvSpPr>
        <p:spPr>
          <a:xfrm>
            <a:off x="5029200" y="4343400"/>
            <a:ext cx="3429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f(x)&gt;0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-4;0)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2;3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96"/>
          <p:cNvSpPr/>
          <p:nvPr/>
        </p:nvSpPr>
        <p:spPr>
          <a:xfrm>
            <a:off x="4952880" y="4724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99ff"/>
                </a:solidFill>
                <a:latin typeface="Arial"/>
              </a:rPr>
              <a:t>wartości ujem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97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3598920" cy="3152880"/>
          </a:xfrm>
          <a:prstGeom prst="rect">
            <a:avLst/>
          </a:prstGeom>
          <a:ln w="0">
            <a:noFill/>
          </a:ln>
        </p:spPr>
      </p:pic>
      <p:sp>
        <p:nvSpPr>
          <p:cNvPr id="146" name="Line 1298"/>
          <p:cNvSpPr/>
          <p:nvPr/>
        </p:nvSpPr>
        <p:spPr>
          <a:xfrm>
            <a:off x="2590920" y="4343400"/>
            <a:ext cx="69516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99"/>
          <p:cNvSpPr/>
          <p:nvPr/>
        </p:nvSpPr>
        <p:spPr>
          <a:xfrm>
            <a:off x="5029200" y="5105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f(x)&lt;0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0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2:32:58Z</dcterms:created>
  <dc:creator>K</dc:creator>
  <dc:description/>
  <dc:language>en-US</dc:language>
  <cp:lastModifiedBy>user</cp:lastModifiedBy>
  <dcterms:modified xsi:type="dcterms:W3CDTF">2010-11-08T07:28:42Z</dcterms:modified>
  <cp:revision>19</cp:revision>
  <dc:subject/>
  <dc:title>Przekształcanie wykresów funkcji.</dc:title>
</cp:coreProperties>
</file>