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APARAT.WAV" ContentType="audio/x-wav"/>
  <Override PartName="/ppt/media/DZWONKI.WAV" ContentType="audio/x-wav"/>
  <Override PartName="/ppt/media/carbrake.wav" ContentType="audio/x-wav"/>
  <Override PartName="/ppt/media/image2.wmf" ContentType="image/x-wmf"/>
  <Override PartName="/ppt/media/image3.wmf" ContentType="image/x-wmf"/>
  <Override PartName="/ppt/media/image4.png" ContentType="image/png"/>
  <Override PartName="/ppt/media/projctor.wav" ContentType="audio/x-wav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48C-1E1D-40C1-8D31-AC5A687D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94B-2153-4D81-BE46-3F31EE0E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6CB-B3D0-4C21-91B8-64AA10C0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BD1-125C-4623-8745-1393A6BF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7F60-671F-4AB2-B56E-9C909C0F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8053-CF43-4752-8196-43A79C13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1D5C-F675-45B2-8CDA-F5969AF3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DBD9-B2E5-4FEF-8B6D-4D680332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7E90-7CD4-46C2-BBBF-27AAD70A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F5C9-E042-4B6D-A755-AC7BF550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2C19-6C62-48A3-A734-19E61CDE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F09-2DD0-48C8-9CB6-A4BEF4E8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7AB2-5AAE-4A74-9C97-A481DF40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B5F8-656E-4C88-86F6-3716226C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255D-5B9B-46B5-9592-F2366845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5EDB-3528-4108-B328-D64DAB96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219B-C2BC-41A5-B7D4-8EAE3711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B18-DB23-4EA7-ACAB-2672C2F7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8EBA-8574-465E-9A6B-92F6A1C0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147-8DF2-4D75-881C-69C5CBFA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2B3-59E4-423A-8777-DDC41DD3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916-902B-4428-8F81-C7D5D2FD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616-AFE2-4EE4-8E34-39BD3238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B31-D8D6-48A1-A7BD-0ED2DEFA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8B15-7847-4729-896A-AA47C775576A}" type="slidenum"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9CBE-CCAD-410C-BAF3-5CD22BA25306}" type="slidenum"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ARAT.WAV"/><Relationship Id="rId3" Type="http://schemas.openxmlformats.org/officeDocument/2006/relationships/audio" Target="../media/DZWONKI.WAV"/><Relationship Id="rId4" Type="http://schemas.openxmlformats.org/officeDocument/2006/relationships/audio" Target="../media/DZWONKI.WAV"/><Relationship Id="rId5" Type="http://schemas.openxmlformats.org/officeDocument/2006/relationships/audio" Target="../media/DZWONKI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audio" Target="../media/DZWONKI.WAV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audio" Target="../media/DZWONKI.WAV"/><Relationship Id="rId5" Type="http://schemas.openxmlformats.org/officeDocument/2006/relationships/audio" Target="../media/DZWONKI.WAV"/><Relationship Id="rId6" Type="http://schemas.openxmlformats.org/officeDocument/2006/relationships/audio" Target="../media/DZWONKI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DZWONKI.WAV"/><Relationship Id="rId4" Type="http://schemas.openxmlformats.org/officeDocument/2006/relationships/audio" Target="../media/DZWONKI.WAV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audio" Target="../media/DZWONKI.WAV"/><Relationship Id="rId5" Type="http://schemas.openxmlformats.org/officeDocument/2006/relationships/audio" Target="../media/DZWONKI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audio" Target="../media/DZWONKI.WAV"/><Relationship Id="rId5" Type="http://schemas.openxmlformats.org/officeDocument/2006/relationships/audio" Target="../media/DZWONKI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glas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audio" Target="../media/DZWONKI.WAV"/><Relationship Id="rId5" Type="http://schemas.openxmlformats.org/officeDocument/2006/relationships/audio" Target="../media/DZWONKI.WAV"/><Relationship Id="rId6" Type="http://schemas.openxmlformats.org/officeDocument/2006/relationships/audio" Target="../media/DZWONKI.WAV"/><Relationship Id="rId7" Type="http://schemas.openxmlformats.org/officeDocument/2006/relationships/audio" Target="../media/DZWONKI.WAV"/><Relationship Id="rId8" Type="http://schemas.openxmlformats.org/officeDocument/2006/relationships/audio" Target="../media/DZWONKI.WAV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audio" Target="../media/DZWONKI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FUNKCJA KWADRATOW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WYKONAŁY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Kinga Celińska-Droz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Ewelina Dorosz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AR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Równanie dwukwadratow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a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4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b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c=0 dla a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0, x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R.   Sprowadza się do równania kwadratowego za pomocą podstawienia 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=z, gdzie z 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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Nierówności kwadratow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Nierównością kwadratową nazywamy nierówność  postaci: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a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bx+c&gt;0 lub a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bx+c&lt;0, gdzie a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0 i x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Dla utrwalenia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kilka zadań!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Zadanie 1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Sprowadź do postaci kanonicznej funkcje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y=-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-2x+3       y=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5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Zadanie 2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Rozwiąż równanie 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-5x+6=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Zadanie 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Rozwiąż nierówności 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4x-2&lt;3(2x+3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2(x-3)-6(x+2)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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2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-3x+5&lt;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Dziękujemy za obejrzenie naszej prezentacji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Definicja funkcji kwadratowej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Funkcję określoną dla liczb rzeczywistych x wzorem y=a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bx+c, gdzie a,b,c są ustalonymi liczbami rzeczywistymi przy czym a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0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Wykres funkcji y=x</a:t>
            </a:r>
            <a:r>
              <a:rPr b="0" lang="pl-PL" sz="4400" spc="-1" strike="noStrike" baseline="30000">
                <a:solidFill>
                  <a:srgbClr val="cc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5105160" cy="461016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Postacie funkcji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Kanoniczna: y=a(x-p)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q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Iloczynowa: y=a(x-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)(x-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Ogólna: y=a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bx+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Postać kanoniczn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Funkcję y=a(x-p)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q, gdzie a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0, x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R nazywamy funkcją kwadratową lub trójmianem kwadratowym postaci kanonicznej,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p=-b/2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q=-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/4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Y=-(x-2)</a:t>
            </a:r>
            <a:r>
              <a:rPr b="0" lang="pl-PL" sz="4400" spc="-1" strike="noStrike" baseline="30000">
                <a:solidFill>
                  <a:srgbClr val="ccffff"/>
                </a:solidFill>
                <a:latin typeface="Tahoma"/>
              </a:rPr>
              <a:t>2</a:t>
            </a: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+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09680" y="1828800"/>
            <a:ext cx="4648320" cy="419724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Miejsca zerowe funkcj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Funkcja kwadratowa ma dwa różne miejsca zerowe 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, 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2 </a:t>
            </a:r>
            <a:r>
              <a:rPr b="0" lang="pl-PL" sz="3200" spc="-1" strike="noStrike">
                <a:solidFill>
                  <a:srgbClr val="ccecff"/>
                </a:solidFill>
                <a:latin typeface="Wingdings"/>
                <a:ea typeface="Wingdings"/>
              </a:rPr>
              <a:t>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&gt;0, przy czym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Funkcja kwadratowa ma dokładnie jedno miejsce zerowe 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3200" spc="-1" strike="noStrike">
                <a:solidFill>
                  <a:srgbClr val="ccecff"/>
                </a:solidFill>
                <a:latin typeface="Wingdings"/>
                <a:ea typeface="Wingdings"/>
              </a:rPr>
              <a:t>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=0 i wówczas 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=-b/2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funkcja kwadratowa nie ma miejsc zerowych</a:t>
            </a:r>
            <a:r>
              <a:rPr b="0" lang="pl-PL" sz="3200" spc="-1" strike="noStrike">
                <a:solidFill>
                  <a:srgbClr val="ccecff"/>
                </a:solidFill>
                <a:latin typeface="Wingdings"/>
                <a:ea typeface="Wingdings"/>
              </a:rPr>
              <a:t>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&lt;0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0" y="2971800"/>
          <a:ext cx="385272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971800"/>
                    <a:ext cx="38527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"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Postać iloczynow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Jeżeli </a:t>
            </a:r>
            <a:r>
              <a:rPr b="0" lang="pl-PL" sz="28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&gt;0, to trójmian kwadratowy y=ax</a:t>
            </a:r>
            <a:r>
              <a:rPr b="0" lang="pl-PL" sz="28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+bx+c (a</a:t>
            </a:r>
            <a:r>
              <a:rPr b="0" lang="pl-PL" sz="28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0) można przedstawić w postaci iloczynu y=a(x-x</a:t>
            </a:r>
            <a:r>
              <a:rPr b="0" lang="pl-PL" sz="28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)(x-x</a:t>
            </a:r>
            <a:r>
              <a:rPr b="0" lang="pl-PL" sz="2800" spc="-1" strike="noStrike" baseline="-25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), gdzie x</a:t>
            </a:r>
            <a:r>
              <a:rPr b="0" lang="pl-PL" sz="28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, x</a:t>
            </a:r>
            <a:r>
              <a:rPr b="0" lang="pl-PL" sz="2800" spc="-1" strike="noStrike" baseline="-25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 oznaczają miejsce zerowe trójmianu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jeżeli </a:t>
            </a:r>
            <a:r>
              <a:rPr b="0" lang="pl-PL" sz="28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=0, to trójmian kwadratowy y=ax</a:t>
            </a:r>
            <a:r>
              <a:rPr b="0" lang="pl-PL" sz="28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+bx+c (a</a:t>
            </a:r>
            <a:r>
              <a:rPr b="0" lang="pl-PL" sz="28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0) można przedstawić w postaci y=a(x-x</a:t>
            </a:r>
            <a:r>
              <a:rPr b="0" lang="pl-PL" sz="28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)</a:t>
            </a:r>
            <a:r>
              <a:rPr b="0" lang="pl-PL" sz="28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, x</a:t>
            </a:r>
            <a:r>
              <a:rPr b="0" lang="pl-PL" sz="28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 miejsce zerowe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Wzory Viete’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Jeżeli równanie kwadratowe a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bx+c=0 (a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0) ma rozwiązania 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, 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, to 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=-b/a, 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  <a:ea typeface="Tahoma"/>
              </a:rPr>
              <a:t>·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=c/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3T07:25:37Z</dcterms:created>
  <dc:creator>ZSR</dc:creator>
  <dc:description/>
  <dc:language>en-US</dc:language>
  <cp:lastModifiedBy>.</cp:lastModifiedBy>
  <dcterms:modified xsi:type="dcterms:W3CDTF">2009-08-05T13:14:14Z</dcterms:modified>
  <cp:revision>9</cp:revision>
  <dc:subject/>
  <dc:title>FUNKCJA KWADRATOWA</dc:title>
</cp:coreProperties>
</file>