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30F-F32B-4F5D-BC44-C154B6D1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1D9-5401-426B-A800-BB6DB670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F04-F1D8-4F1C-8DF0-98E75B98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EF0-D19B-401F-AE65-934B2226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FDB7-1820-47FA-B929-F3DF48F8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F8E5-D604-4444-9805-117EAD5E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F10B-F299-4844-A058-AFB09CD1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54D9-6C73-48B8-A0B9-CF6B3D50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0267-30FC-4C2E-928C-5BFA2B97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0C28-B74A-442A-A758-8F7745A3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37EC-66E9-44CB-99BF-D003FF06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4DCF-D0EA-4E2A-BE7D-B98BD3C5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B9EF-E66D-40DA-B1BB-1A4A5BB2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43F1-EDC4-4051-9475-2E19256A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5265-CD60-453C-A7B0-DCB66BA1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C37F-A821-422E-8036-5A510818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3ACE-73A3-4CF5-A9A6-BB97DDC2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DE3-9990-4240-A236-8973E48A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4CE-A7E2-469D-974C-1683AFD4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C52-C0FD-479E-89A5-18D38031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BBC-1A78-4217-A5B5-68D285FE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24A-05CB-4BB8-9C36-57F49E0C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63F-02EA-43EF-BEDF-270B8B16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A5B-F05D-4A39-9136-590FB83F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e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>
                  <a:gd name="textAreaLeft" fmla="*/ 0 w 1032120"/>
                  <a:gd name="textAreaRight" fmla="*/ 1032480 w 103212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720"/>
                  <a:gd name="textAreaBottom" fmla="*/ 1179720 h 117972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>
                  <a:gd name="textAreaLeft" fmla="*/ 0 w 1090800"/>
                  <a:gd name="textAreaRight" fmla="*/ 1090800 w 109080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5400"/>
                  <a:gd name="textAreaBottom" fmla="*/ 126540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>
                  <a:gd name="textAreaLeft" fmla="*/ 0 w 1566720"/>
                  <a:gd name="textAreaRight" fmla="*/ 1567080 w 156672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>
                  <a:gd name="textAreaLeft" fmla="*/ 0 w 849600"/>
                  <a:gd name="textAreaRight" fmla="*/ 849960 w 84960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>
                <a:gd name="textAreaLeft" fmla="*/ 0 w 1374840"/>
                <a:gd name="textAreaRight" fmla="*/ 1375200 w 1374840"/>
                <a:gd name="textAreaTop" fmla="*/ 0 h 1262160"/>
                <a:gd name="textAreaBottom" fmla="*/ 1262520 h 1262160"/>
              </a:gdLst>
              <a:ahLst/>
              <a:rect l="textAreaLeft" t="textAreaTop" r="textAreaRight" b="textAreaBottom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1152360"/>
                  <a:gd name="textAreaBottom" fmla="*/ 1152720 h 11523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845640"/>
                  <a:gd name="textAreaBottom" fmla="*/ 846000 h 845640"/>
                </a:gdLst>
                <a:ahLst/>
                <a:rect l="textAreaLeft" t="textAreaTop" r="textAreaRight" b="textAreaBottom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661680"/>
                  <a:gd name="textAreaBottom" fmla="*/ 662040 h 661680"/>
                </a:gdLst>
                <a:ahLst/>
                <a:rect l="textAreaLeft" t="textAreaTop" r="textAreaRight" b="textAreaBottom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9EE2-AF53-4F98-8DDF-436AE3269921}" type="slidenum">
              <a:rPr b="0" lang="pl-PL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e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>
                  <a:gd name="textAreaLeft" fmla="*/ 0 w 1032120"/>
                  <a:gd name="textAreaRight" fmla="*/ 1032480 w 103212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720"/>
                  <a:gd name="textAreaBottom" fmla="*/ 1179720 h 117972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5400"/>
                  <a:gd name="textAreaBottom" fmla="*/ 126540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>
                  <a:gd name="textAreaLeft" fmla="*/ 0 w 1566720"/>
                  <a:gd name="textAreaRight" fmla="*/ 1567080 w 156672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5400"/>
                  <a:gd name="textAreaBottom" fmla="*/ 126540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>
                  <a:gd name="textAreaLeft" fmla="*/ 0 w 1090800"/>
                  <a:gd name="textAreaRight" fmla="*/ 1090800 w 109080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>
                  <a:gd name="textAreaLeft" fmla="*/ 0 w 1782720"/>
                  <a:gd name="textAreaRight" fmla="*/ 1783080 w 1782720"/>
                  <a:gd name="textAreaTop" fmla="*/ 0 h 1636560"/>
                  <a:gd name="textAreaBottom" fmla="*/ 1636920 h 16365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>
                    <a:gd name="textAreaLeft" fmla="*/ 0 w 1627200"/>
                    <a:gd name="textAreaRight" fmla="*/ 1627560 w 1627200"/>
                    <a:gd name="textAreaTop" fmla="*/ 0 h 1494360"/>
                    <a:gd name="textAreaBottom" fmla="*/ 1494720 h 1494360"/>
                  </a:gdLst>
                  <a:ahLst/>
                  <a:rect l="textAreaLeft" t="textAreaTop" r="textAreaRight" b="textAreaBottom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>
                    <a:gd name="textAreaLeft" fmla="*/ 0 w 367200"/>
                    <a:gd name="textAreaRight" fmla="*/ 367200 w 367200"/>
                    <a:gd name="textAreaTop" fmla="*/ 0 h 1096920"/>
                    <a:gd name="textAreaBottom" fmla="*/ 1097280 h 1096920"/>
                  </a:gdLst>
                  <a:ahLst/>
                  <a:rect l="textAreaLeft" t="textAreaTop" r="textAreaRight" b="textAreaBottom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>
                    <a:gd name="textAreaLeft" fmla="*/ 0 w 1379520"/>
                    <a:gd name="textAreaRight" fmla="*/ 1379880 w 1379520"/>
                    <a:gd name="textAreaTop" fmla="*/ 0 h 360000"/>
                    <a:gd name="textAreaBottom" fmla="*/ 360000 h 360000"/>
                  </a:gdLst>
                  <a:ahLst/>
                  <a:rect l="textAreaLeft" t="textAreaTop" r="textAreaRight" b="textAreaBottom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>
                    <a:gd name="textAreaLeft" fmla="*/ 0 w 884880"/>
                    <a:gd name="textAreaRight" fmla="*/ 885240 w 884880"/>
                    <a:gd name="textAreaTop" fmla="*/ 0 h 858600"/>
                    <a:gd name="textAreaBottom" fmla="*/ 858960 h 858600"/>
                  </a:gdLst>
                  <a:ahLst/>
                  <a:rect l="textAreaLeft" t="textAreaTop" r="textAreaRight" b="textAreaBottom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>
                    <a:gd name="textAreaLeft" fmla="*/ 0 w 526680"/>
                    <a:gd name="textAreaRight" fmla="*/ 527040 w 526680"/>
                    <a:gd name="textAreaTop" fmla="*/ 0 h 521280"/>
                    <a:gd name="textAreaBottom" fmla="*/ 521640 h 521280"/>
                  </a:gdLst>
                  <a:ahLst/>
                  <a:rect l="textAreaLeft" t="textAreaTop" r="textAreaRight" b="textAreaBottom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9373-2906-4EE5-987F-CC86B58EE177}" type="slidenum">
              <a:rPr b="0" lang="pl-PL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rystal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rystal.wav" TargetMode="External"/><Relationship Id="rId2" Type="http://schemas.openxmlformats.org/officeDocument/2006/relationships/hyperlink" Target="file:///tmp/home/.config/libreoffice/4/user/gallery/WRONG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1">
            <a:hlinkClick r:id="" action="ppaction://hlinkshowjump?jump=nextslide"/>
          </p:cNvPr>
          <p:cNvSpPr/>
          <p:nvPr/>
        </p:nvSpPr>
        <p:spPr>
          <a:xfrm>
            <a:off x="8077320" y="552924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WordArt 13"/>
          <p:cNvSpPr txBox="1"/>
          <p:nvPr/>
        </p:nvSpPr>
        <p:spPr>
          <a:xfrm>
            <a:off x="914400" y="1676520"/>
            <a:ext cx="7620120" cy="304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Trójkąty.</a:t>
            </a:r>
            <a:endParaRPr b="1" i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21ae2"/>
                </a:solidFill>
                <a:latin typeface="Arial Narrow"/>
              </a:rPr>
              <a:t>Trójkąt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1562040" y="1752480"/>
            <a:ext cx="63626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Trójkąt to wielokąt, który ma trzy boki i trzy kąty.</a:t>
            </a:r>
            <a:endParaRPr b="1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88620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Proble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762120" y="2971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21ae2"/>
                </a:solidFill>
                <a:latin typeface="Times New Roman"/>
              </a:rPr>
              <a:t>Czy z każdych trzech odcinków można zbudować trójką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380880" y="3657600"/>
            <a:ext cx="215928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8"/>
          <p:cNvSpPr/>
          <p:nvPr/>
        </p:nvSpPr>
        <p:spPr>
          <a:xfrm>
            <a:off x="380880" y="3962520"/>
            <a:ext cx="3598920" cy="1440"/>
          </a:xfrm>
          <a:custGeom>
            <a:avLst/>
            <a:gdLst>
              <a:gd name="textAreaLeft" fmla="*/ 0 w 3598920"/>
              <a:gd name="textAreaRight" fmla="*/ 3599280 w 3598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992" h="1">
                <a:moveTo>
                  <a:pt x="0" y="0"/>
                </a:moveTo>
                <a:lnTo>
                  <a:pt x="1992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444600" y="4267080"/>
            <a:ext cx="1079280" cy="0"/>
          </a:xfrm>
          <a:prstGeom prst="line">
            <a:avLst/>
          </a:prstGeom>
          <a:ln w="5724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5105520" y="35053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21ae2"/>
                </a:solidFill>
                <a:latin typeface="Times New Roman"/>
              </a:rPr>
              <a:t>Wybieramy najdłuższy odcinek na podstawę i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32"/>
          <p:cNvSpPr/>
          <p:nvPr/>
        </p:nvSpPr>
        <p:spPr>
          <a:xfrm flipV="1">
            <a:off x="2666880" y="5487120"/>
            <a:ext cx="3598920" cy="303480"/>
          </a:xfrm>
          <a:custGeom>
            <a:avLst/>
            <a:gdLst>
              <a:gd name="textAreaLeft" fmla="*/ 0 w 3598920"/>
              <a:gd name="textAreaRight" fmla="*/ 3599280 w 3598920"/>
              <a:gd name="textAreaTop" fmla="*/ -360 h 303480"/>
              <a:gd name="textAreaBottom" fmla="*/ 303480 h 303480"/>
            </a:gdLst>
            <a:ahLst/>
            <a:rect l="textAreaLeft" t="textAreaTop" r="textAreaRight" b="textAreaBottom"/>
            <a:pathLst>
              <a:path w="1992" h="1">
                <a:moveTo>
                  <a:pt x="0" y="0"/>
                </a:moveTo>
                <a:lnTo>
                  <a:pt x="1992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67"/>
          <p:cNvGrpSpPr/>
          <p:nvPr/>
        </p:nvGrpSpPr>
        <p:grpSpPr>
          <a:xfrm>
            <a:off x="2666880" y="5789520"/>
            <a:ext cx="3598920" cy="1800"/>
            <a:chOff x="2666880" y="5789520"/>
            <a:chExt cx="3598920" cy="1800"/>
          </a:xfrm>
        </p:grpSpPr>
        <p:sp>
          <p:nvSpPr>
            <p:cNvPr id="287" name="Freeform 25"/>
            <p:cNvSpPr/>
            <p:nvPr/>
          </p:nvSpPr>
          <p:spPr>
            <a:xfrm>
              <a:off x="2666880" y="5789520"/>
              <a:ext cx="2184480" cy="360"/>
            </a:xfrm>
            <a:custGeom>
              <a:avLst/>
              <a:gdLst/>
              <a:ahLst/>
              <a:rect l="l" t="t" r="r" b="b"/>
              <a:pathLst>
                <a:path w="936" h="13">
                  <a:moveTo>
                    <a:pt x="0" y="0"/>
                  </a:moveTo>
                  <a:lnTo>
                    <a:pt x="936" y="13"/>
                  </a:lnTo>
                </a:path>
              </a:pathLst>
            </a:custGeom>
            <a:noFill/>
            <a:ln w="57240">
              <a:solidFill>
                <a:srgbClr val="aba1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30"/>
            <p:cNvSpPr/>
            <p:nvPr/>
          </p:nvSpPr>
          <p:spPr>
            <a:xfrm>
              <a:off x="5173560" y="5791320"/>
              <a:ext cx="1092240" cy="0"/>
            </a:xfrm>
            <a:prstGeom prst="line">
              <a:avLst/>
            </a:prstGeom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44"/>
          <p:cNvSpPr/>
          <p:nvPr/>
        </p:nvSpPr>
        <p:spPr>
          <a:xfrm>
            <a:off x="22860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Z odcinków danej długości nie można zbudować trójką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5">
            <a:hlinkClick r:id="rId1"/>
          </p:cNvPr>
          <p:cNvSpPr/>
          <p:nvPr/>
        </p:nvSpPr>
        <p:spPr>
          <a:xfrm>
            <a:off x="8424720" y="552924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108"/>
          <p:cNvGrpSpPr/>
          <p:nvPr/>
        </p:nvGrpSpPr>
        <p:grpSpPr>
          <a:xfrm>
            <a:off x="2666520" y="5562720"/>
            <a:ext cx="3582000" cy="228600"/>
            <a:chOff x="2666520" y="5562720"/>
            <a:chExt cx="3582000" cy="228600"/>
          </a:xfrm>
        </p:grpSpPr>
        <p:sp>
          <p:nvSpPr>
            <p:cNvPr id="292" name="Line 90"/>
            <p:cNvSpPr/>
            <p:nvPr/>
          </p:nvSpPr>
          <p:spPr>
            <a:xfrm>
              <a:off x="5181480" y="5562720"/>
              <a:ext cx="1067040" cy="228600"/>
            </a:xfrm>
            <a:prstGeom prst="line">
              <a:avLst/>
            </a:prstGeom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97"/>
            <p:cNvSpPr/>
            <p:nvPr/>
          </p:nvSpPr>
          <p:spPr>
            <a:xfrm flipH="1">
              <a:off x="2666520" y="5562720"/>
              <a:ext cx="2133720" cy="228600"/>
            </a:xfrm>
            <a:prstGeom prst="line">
              <a:avLst/>
            </a:prstGeom>
            <a:ln w="57240">
              <a:solidFill>
                <a:srgbClr val="aba1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107"/>
          <p:cNvGrpSpPr/>
          <p:nvPr/>
        </p:nvGrpSpPr>
        <p:grpSpPr>
          <a:xfrm>
            <a:off x="2666520" y="5334120"/>
            <a:ext cx="3582000" cy="457200"/>
            <a:chOff x="2666520" y="5334120"/>
            <a:chExt cx="3582000" cy="457200"/>
          </a:xfrm>
        </p:grpSpPr>
        <p:sp>
          <p:nvSpPr>
            <p:cNvPr id="295" name="Line 91"/>
            <p:cNvSpPr/>
            <p:nvPr/>
          </p:nvSpPr>
          <p:spPr>
            <a:xfrm>
              <a:off x="5257800" y="5334120"/>
              <a:ext cx="990720" cy="457200"/>
            </a:xfrm>
            <a:prstGeom prst="line">
              <a:avLst/>
            </a:prstGeom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99"/>
            <p:cNvSpPr/>
            <p:nvPr/>
          </p:nvSpPr>
          <p:spPr>
            <a:xfrm flipH="1">
              <a:off x="2666520" y="5334120"/>
              <a:ext cx="2133720" cy="457200"/>
            </a:xfrm>
            <a:prstGeom prst="line">
              <a:avLst/>
            </a:prstGeom>
            <a:ln w="57240">
              <a:solidFill>
                <a:srgbClr val="aba1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106"/>
          <p:cNvGrpSpPr/>
          <p:nvPr/>
        </p:nvGrpSpPr>
        <p:grpSpPr>
          <a:xfrm>
            <a:off x="2666520" y="5029200"/>
            <a:ext cx="3582000" cy="762120"/>
            <a:chOff x="2666520" y="5029200"/>
            <a:chExt cx="3582000" cy="762120"/>
          </a:xfrm>
        </p:grpSpPr>
        <p:sp>
          <p:nvSpPr>
            <p:cNvPr id="298" name="Line 92"/>
            <p:cNvSpPr/>
            <p:nvPr/>
          </p:nvSpPr>
          <p:spPr>
            <a:xfrm>
              <a:off x="5410080" y="5105520"/>
              <a:ext cx="838440" cy="685800"/>
            </a:xfrm>
            <a:prstGeom prst="line">
              <a:avLst/>
            </a:prstGeom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00"/>
            <p:cNvSpPr/>
            <p:nvPr/>
          </p:nvSpPr>
          <p:spPr>
            <a:xfrm flipH="1">
              <a:off x="2666520" y="5029200"/>
              <a:ext cx="2057400" cy="762120"/>
            </a:xfrm>
            <a:prstGeom prst="line">
              <a:avLst/>
            </a:prstGeom>
            <a:ln w="57240">
              <a:solidFill>
                <a:srgbClr val="aba1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105"/>
          <p:cNvGrpSpPr/>
          <p:nvPr/>
        </p:nvGrpSpPr>
        <p:grpSpPr>
          <a:xfrm>
            <a:off x="2666880" y="4800600"/>
            <a:ext cx="3581640" cy="990360"/>
            <a:chOff x="2666880" y="4800600"/>
            <a:chExt cx="3581640" cy="990360"/>
          </a:xfrm>
        </p:grpSpPr>
        <p:sp>
          <p:nvSpPr>
            <p:cNvPr id="301" name="Line 93"/>
            <p:cNvSpPr/>
            <p:nvPr/>
          </p:nvSpPr>
          <p:spPr>
            <a:xfrm>
              <a:off x="5562720" y="4952880"/>
              <a:ext cx="685800" cy="838080"/>
            </a:xfrm>
            <a:prstGeom prst="line">
              <a:avLst/>
            </a:prstGeom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01"/>
            <p:cNvSpPr/>
            <p:nvPr/>
          </p:nvSpPr>
          <p:spPr>
            <a:xfrm flipH="1">
              <a:off x="2666880" y="4800600"/>
              <a:ext cx="1905120" cy="990360"/>
            </a:xfrm>
            <a:prstGeom prst="line">
              <a:avLst/>
            </a:prstGeom>
            <a:ln w="57240">
              <a:solidFill>
                <a:srgbClr val="aba1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104"/>
          <p:cNvGrpSpPr/>
          <p:nvPr/>
        </p:nvGrpSpPr>
        <p:grpSpPr>
          <a:xfrm>
            <a:off x="2666520" y="4495680"/>
            <a:ext cx="3582000" cy="1295280"/>
            <a:chOff x="2666520" y="4495680"/>
            <a:chExt cx="3582000" cy="1295280"/>
          </a:xfrm>
        </p:grpSpPr>
        <p:sp>
          <p:nvSpPr>
            <p:cNvPr id="304" name="Line 94"/>
            <p:cNvSpPr/>
            <p:nvPr/>
          </p:nvSpPr>
          <p:spPr>
            <a:xfrm>
              <a:off x="5791320" y="4800240"/>
              <a:ext cx="457200" cy="990720"/>
            </a:xfrm>
            <a:prstGeom prst="line">
              <a:avLst/>
            </a:prstGeom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02"/>
            <p:cNvSpPr/>
            <p:nvPr/>
          </p:nvSpPr>
          <p:spPr>
            <a:xfrm flipH="1">
              <a:off x="2666520" y="4495680"/>
              <a:ext cx="1752840" cy="1295280"/>
            </a:xfrm>
            <a:prstGeom prst="line">
              <a:avLst/>
            </a:prstGeom>
            <a:ln w="57240">
              <a:solidFill>
                <a:srgbClr val="aba1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75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25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25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25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975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7475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9975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475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75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8475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4975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evt="end">
                                        <p:tn val="55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6475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7975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9475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0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975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2475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3975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75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5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66"/>
                </a:solidFill>
                <a:latin typeface="Arial Narrow"/>
              </a:rPr>
              <a:t>Nierówność trójkąt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457200" y="914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Suma długości dwóch dowolnych boków trójkąta jest większa od długości boku trzeciego.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0" y="5410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0066"/>
                </a:solidFill>
                <a:latin typeface="Times New Roman"/>
              </a:rPr>
              <a:t>Tw</a:t>
            </a:r>
            <a:r>
              <a:rPr b="1" i="1" lang="pl-PL" sz="2400" spc="-1" strike="noStrike">
                <a:solidFill>
                  <a:srgbClr val="321ae2"/>
                </a:solidFill>
                <a:latin typeface="Times New Roman"/>
              </a:rPr>
              <a:t>. W dowolnym trójkącie każdy bok jest mniejszy od sumy długości pozostałych dwóch boków i większy od wartości bezwzględnej różnicy długości tych bok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952880" y="4572000"/>
            <a:ext cx="274320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|a–</a:t>
            </a:r>
            <a:r>
              <a:rPr b="0" lang="pl-PL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c| &lt; b &lt; a+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762120" y="21938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a &lt; b + c    </a:t>
            </a:r>
            <a:r>
              <a:rPr b="1" lang="pl-PL" sz="3200" spc="-1" strike="noStrike">
                <a:solidFill>
                  <a:srgbClr val="ff0066"/>
                </a:solidFill>
                <a:latin typeface="Symbol"/>
                <a:ea typeface="Symbol"/>
              </a:rPr>
              <a:t></a:t>
            </a: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    b &lt; a +c     </a:t>
            </a:r>
            <a:r>
              <a:rPr b="1" lang="pl-PL" sz="3200" spc="-1" strike="noStrike">
                <a:solidFill>
                  <a:srgbClr val="ff0066"/>
                </a:solidFill>
                <a:latin typeface="Symbol"/>
                <a:ea typeface="Symbol"/>
              </a:rPr>
              <a:t></a:t>
            </a: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   c &lt; a 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62120" y="28195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a – c &lt; b</a:t>
            </a: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pl-PL" sz="3200" spc="-1" strike="noStrike">
                <a:solidFill>
                  <a:srgbClr val="ff0066"/>
                </a:solidFill>
                <a:latin typeface="Symbol"/>
                <a:ea typeface="Symbol"/>
              </a:rPr>
              <a:t></a:t>
            </a: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    b &lt; a 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1">
            <a:hlinkClick r:id="" action="ppaction://hlinkshowjump?jump=nextslide"/>
          </p:cNvPr>
          <p:cNvSpPr/>
          <p:nvPr/>
        </p:nvSpPr>
        <p:spPr>
          <a:xfrm>
            <a:off x="8424720" y="613872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2"/>
          <p:cNvSpPr/>
          <p:nvPr/>
        </p:nvSpPr>
        <p:spPr>
          <a:xfrm flipH="1">
            <a:off x="1599840" y="2590920"/>
            <a:ext cx="609480" cy="457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47"/>
          <p:cNvGrpSpPr/>
          <p:nvPr/>
        </p:nvGrpSpPr>
        <p:grpSpPr>
          <a:xfrm>
            <a:off x="879120" y="2895480"/>
            <a:ext cx="4150080" cy="581400"/>
            <a:chOff x="879120" y="2895480"/>
            <a:chExt cx="4150080" cy="581400"/>
          </a:xfrm>
        </p:grpSpPr>
        <p:sp>
          <p:nvSpPr>
            <p:cNvPr id="315" name="Text Box 24"/>
            <p:cNvSpPr/>
            <p:nvPr/>
          </p:nvSpPr>
          <p:spPr>
            <a:xfrm>
              <a:off x="3429000" y="289548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b &lt; a 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31"/>
            <p:cNvSpPr/>
            <p:nvPr/>
          </p:nvSpPr>
          <p:spPr>
            <a:xfrm>
              <a:off x="879120" y="289548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 – c &lt;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Group 46"/>
          <p:cNvGrpSpPr/>
          <p:nvPr/>
        </p:nvGrpSpPr>
        <p:grpSpPr>
          <a:xfrm>
            <a:off x="914040" y="3048120"/>
            <a:ext cx="3997440" cy="581400"/>
            <a:chOff x="914040" y="3048120"/>
            <a:chExt cx="3997440" cy="581400"/>
          </a:xfrm>
        </p:grpSpPr>
        <p:sp>
          <p:nvSpPr>
            <p:cNvPr id="318" name="Text Box 25"/>
            <p:cNvSpPr/>
            <p:nvPr/>
          </p:nvSpPr>
          <p:spPr>
            <a:xfrm>
              <a:off x="3311280" y="30481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b &lt; a 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32"/>
            <p:cNvSpPr/>
            <p:nvPr/>
          </p:nvSpPr>
          <p:spPr>
            <a:xfrm>
              <a:off x="914040" y="304812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 – c &lt;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45"/>
          <p:cNvGrpSpPr/>
          <p:nvPr/>
        </p:nvGrpSpPr>
        <p:grpSpPr>
          <a:xfrm>
            <a:off x="990000" y="3200400"/>
            <a:ext cx="3845160" cy="581400"/>
            <a:chOff x="990000" y="3200400"/>
            <a:chExt cx="3845160" cy="581400"/>
          </a:xfrm>
        </p:grpSpPr>
        <p:sp>
          <p:nvSpPr>
            <p:cNvPr id="321" name="Text Box 26"/>
            <p:cNvSpPr/>
            <p:nvPr/>
          </p:nvSpPr>
          <p:spPr>
            <a:xfrm>
              <a:off x="3235320" y="3200400"/>
              <a:ext cx="159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b &lt; a 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33"/>
            <p:cNvSpPr/>
            <p:nvPr/>
          </p:nvSpPr>
          <p:spPr>
            <a:xfrm>
              <a:off x="990000" y="320040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 – c &lt;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44"/>
          <p:cNvGrpSpPr/>
          <p:nvPr/>
        </p:nvGrpSpPr>
        <p:grpSpPr>
          <a:xfrm>
            <a:off x="1066320" y="3352680"/>
            <a:ext cx="3616560" cy="581400"/>
            <a:chOff x="1066320" y="3352680"/>
            <a:chExt cx="3616560" cy="581400"/>
          </a:xfrm>
        </p:grpSpPr>
        <p:sp>
          <p:nvSpPr>
            <p:cNvPr id="324" name="Text Box 27"/>
            <p:cNvSpPr/>
            <p:nvPr/>
          </p:nvSpPr>
          <p:spPr>
            <a:xfrm>
              <a:off x="3082680" y="335268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b &lt; a 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34"/>
            <p:cNvSpPr/>
            <p:nvPr/>
          </p:nvSpPr>
          <p:spPr>
            <a:xfrm>
              <a:off x="1066320" y="335268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 – c &lt;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43"/>
          <p:cNvGrpSpPr/>
          <p:nvPr/>
        </p:nvGrpSpPr>
        <p:grpSpPr>
          <a:xfrm>
            <a:off x="1218960" y="3505320"/>
            <a:ext cx="3387960" cy="581400"/>
            <a:chOff x="1218960" y="3505320"/>
            <a:chExt cx="3387960" cy="581400"/>
          </a:xfrm>
        </p:grpSpPr>
        <p:sp>
          <p:nvSpPr>
            <p:cNvPr id="327" name="Text Box 29"/>
            <p:cNvSpPr/>
            <p:nvPr/>
          </p:nvSpPr>
          <p:spPr>
            <a:xfrm>
              <a:off x="3006720" y="35053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b &lt; a 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35"/>
            <p:cNvSpPr/>
            <p:nvPr/>
          </p:nvSpPr>
          <p:spPr>
            <a:xfrm>
              <a:off x="1218960" y="350532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 – c &lt;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42"/>
          <p:cNvGrpSpPr/>
          <p:nvPr/>
        </p:nvGrpSpPr>
        <p:grpSpPr>
          <a:xfrm>
            <a:off x="1294920" y="3657600"/>
            <a:ext cx="3235680" cy="581400"/>
            <a:chOff x="1294920" y="3657600"/>
            <a:chExt cx="3235680" cy="581400"/>
          </a:xfrm>
        </p:grpSpPr>
        <p:sp>
          <p:nvSpPr>
            <p:cNvPr id="330" name="Text Box 28"/>
            <p:cNvSpPr/>
            <p:nvPr/>
          </p:nvSpPr>
          <p:spPr>
            <a:xfrm>
              <a:off x="2930400" y="36576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b &lt; a 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36"/>
            <p:cNvSpPr/>
            <p:nvPr/>
          </p:nvSpPr>
          <p:spPr>
            <a:xfrm>
              <a:off x="1294920" y="365760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 – c &lt;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48"/>
          <p:cNvGrpSpPr/>
          <p:nvPr/>
        </p:nvGrpSpPr>
        <p:grpSpPr>
          <a:xfrm>
            <a:off x="1523880" y="3886200"/>
            <a:ext cx="2971800" cy="581400"/>
            <a:chOff x="1523880" y="3886200"/>
            <a:chExt cx="2971800" cy="581400"/>
          </a:xfrm>
        </p:grpSpPr>
        <p:sp>
          <p:nvSpPr>
            <p:cNvPr id="333" name="Text Box 9"/>
            <p:cNvSpPr/>
            <p:nvPr/>
          </p:nvSpPr>
          <p:spPr>
            <a:xfrm>
              <a:off x="1523880" y="38862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–</a:t>
              </a: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c &lt; b</a:t>
              </a:r>
              <a:r>
                <a:rPr b="0" lang="pl-PL" sz="3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37"/>
            <p:cNvSpPr/>
            <p:nvPr/>
          </p:nvSpPr>
          <p:spPr>
            <a:xfrm>
              <a:off x="2819520" y="388620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00"/>
                  </a:solidFill>
                  <a:latin typeface="Times New Roman"/>
                </a:rPr>
                <a:t>b &lt; a +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Text Box 38"/>
          <p:cNvSpPr/>
          <p:nvPr/>
        </p:nvSpPr>
        <p:spPr>
          <a:xfrm>
            <a:off x="4952880" y="4572000"/>
            <a:ext cx="274320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|a–</a:t>
            </a:r>
            <a:r>
              <a:rPr b="0" lang="pl-PL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c| &lt; b &lt; a+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9"/>
          <p:cNvSpPr/>
          <p:nvPr/>
        </p:nvSpPr>
        <p:spPr>
          <a:xfrm>
            <a:off x="4952880" y="4572000"/>
            <a:ext cx="274320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|a–</a:t>
            </a:r>
            <a:r>
              <a:rPr b="0" lang="pl-PL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c| &lt; b &lt; a+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0"/>
          <p:cNvSpPr/>
          <p:nvPr/>
        </p:nvSpPr>
        <p:spPr>
          <a:xfrm>
            <a:off x="533520" y="1676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Jeżeli mamy dany trójkąt 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ABC</a:t>
            </a: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 o bokach długości 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 ,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,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Group 52"/>
          <p:cNvGrpSpPr/>
          <p:nvPr/>
        </p:nvGrpSpPr>
        <p:grpSpPr>
          <a:xfrm>
            <a:off x="1676520" y="4114800"/>
            <a:ext cx="2743200" cy="581400"/>
            <a:chOff x="1676520" y="4114800"/>
            <a:chExt cx="2743200" cy="581400"/>
          </a:xfrm>
        </p:grpSpPr>
        <p:sp>
          <p:nvSpPr>
            <p:cNvPr id="339" name="Text Box 50"/>
            <p:cNvSpPr/>
            <p:nvPr/>
          </p:nvSpPr>
          <p:spPr>
            <a:xfrm>
              <a:off x="1676520" y="41148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–</a:t>
              </a: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c &lt; </a:t>
              </a:r>
              <a:r>
                <a:rPr b="0" lang="pl-PL" sz="3200" spc="-1" strike="noStrike">
                  <a:solidFill>
                    <a:srgbClr val="ff0066"/>
                  </a:solidFill>
                  <a:latin typeface="Times New Roman"/>
                </a:rPr>
                <a:t>b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51"/>
            <p:cNvSpPr/>
            <p:nvPr/>
          </p:nvSpPr>
          <p:spPr>
            <a:xfrm>
              <a:off x="2743200" y="41148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pl-PL" sz="3200" spc="-1" strike="noStrike">
                  <a:solidFill>
                    <a:srgbClr val="ff0000"/>
                  </a:solidFill>
                  <a:latin typeface="Times New Roman"/>
                </a:rPr>
                <a:t> &lt; a +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75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35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75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9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6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75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75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4775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75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86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1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19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evt="end">
                                        <p:tn val="124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41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46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evt="end">
                                        <p:tn val="134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1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evt="end">
                                        <p:tn val="139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6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4"/>
                                      </p:cond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61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66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71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6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evt="end">
                                        <p:tn val="163"/>
                                      </p:cond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11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16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75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6425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66"/>
                </a:solidFill>
                <a:latin typeface="Arial Narrow"/>
              </a:rPr>
              <a:t>Zadanie 1.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228600" y="18288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21ae2"/>
                </a:solidFill>
                <a:latin typeface="Times New Roman"/>
              </a:rPr>
              <a:t>Zbadaj, czy istnieje trójkąt o bokach długośc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80880" y="25909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a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4 , 5 ,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80880" y="3429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b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3 , 4 ,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380880" y="42670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c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3,5 ; 3 ;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80880" y="5334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d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8"/>
              <p:cNvSpPr txBox="1"/>
              <p:nvPr/>
            </p:nvSpPr>
            <p:spPr>
              <a:xfrm>
                <a:off x="914400" y="5181480"/>
                <a:ext cx="7588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9"/>
              <p:cNvSpPr txBox="1"/>
              <p:nvPr/>
            </p:nvSpPr>
            <p:spPr>
              <a:xfrm>
                <a:off x="1676520" y="5224320"/>
                <a:ext cx="17413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0"/>
              <p:cNvSpPr txBox="1"/>
              <p:nvPr/>
            </p:nvSpPr>
            <p:spPr>
              <a:xfrm>
                <a:off x="3429000" y="5219640"/>
                <a:ext cx="1332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0" name="AutoShape 11">
            <a:hlinkClick r:id="rId1"/>
          </p:cNvPr>
          <p:cNvSpPr/>
          <p:nvPr/>
        </p:nvSpPr>
        <p:spPr>
          <a:xfrm>
            <a:off x="457200" y="613872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12">
            <a:hlinkClick r:id="rId2"/>
          </p:cNvPr>
          <p:cNvSpPr/>
          <p:nvPr/>
        </p:nvSpPr>
        <p:spPr>
          <a:xfrm>
            <a:off x="7848720" y="579132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75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75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75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75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75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275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75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8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75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3475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625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7125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8625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125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625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66"/>
                </a:solidFill>
                <a:latin typeface="Arial Narrow"/>
              </a:rPr>
              <a:t>Zadanie 1.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28600" y="18288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21ae2"/>
                </a:solidFill>
                <a:latin typeface="Times New Roman"/>
              </a:rPr>
              <a:t>Zbadaj, czy istnieje trójkąt o bokach długośc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380880" y="25909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a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4 , 5 ,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380880" y="3429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b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3 , 4 ,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380880" y="42670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c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3,5 ; 3 ;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380880" y="5334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d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8"/>
              <p:cNvSpPr txBox="1"/>
              <p:nvPr/>
            </p:nvSpPr>
            <p:spPr>
              <a:xfrm>
                <a:off x="914400" y="5181480"/>
                <a:ext cx="7588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9"/>
              <p:cNvSpPr txBox="1"/>
              <p:nvPr/>
            </p:nvSpPr>
            <p:spPr>
              <a:xfrm>
                <a:off x="1676520" y="5224320"/>
                <a:ext cx="17413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0"/>
              <p:cNvSpPr txBox="1"/>
              <p:nvPr/>
            </p:nvSpPr>
            <p:spPr>
              <a:xfrm>
                <a:off x="3429000" y="5219640"/>
                <a:ext cx="1332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1" name="AutoShape 12"/>
          <p:cNvSpPr/>
          <p:nvPr/>
        </p:nvSpPr>
        <p:spPr>
          <a:xfrm>
            <a:off x="8424720" y="579132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3"/>
          <p:cNvSpPr/>
          <p:nvPr/>
        </p:nvSpPr>
        <p:spPr>
          <a:xfrm>
            <a:off x="685800" y="533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Times New Roman"/>
              </a:rPr>
              <a:t>Dane są odcinki długości:</a:t>
            </a: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pl-PL" sz="3200" spc="-1" strike="noStrike">
                <a:solidFill>
                  <a:srgbClr val="333333"/>
                </a:solidFill>
                <a:latin typeface="Times New Roman"/>
              </a:rPr>
              <a:t> , </a:t>
            </a:r>
            <a:r>
              <a:rPr b="0" lang="pl-PL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pl-PL" sz="3200" spc="-1" strike="noStrike">
                <a:solidFill>
                  <a:srgbClr val="333333"/>
                </a:solidFill>
                <a:latin typeface="Times New Roman"/>
              </a:rPr>
              <a:t> i </a:t>
            </a:r>
            <a:r>
              <a:rPr b="0" lang="pl-PL" sz="3200" spc="-1" strike="noStrike">
                <a:solidFill>
                  <a:srgbClr val="321ae2"/>
                </a:solidFill>
                <a:latin typeface="Times New Roman"/>
              </a:rPr>
              <a:t>7</a:t>
            </a:r>
            <a:r>
              <a:rPr b="0" lang="pl-PL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457200" y="1143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33"/>
                </a:solidFill>
                <a:latin typeface="Times New Roman"/>
              </a:rPr>
              <a:t>Wówczas mam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85800" y="1676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1" lang="pl-PL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pl-PL" sz="3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|=|-2|=2    </a:t>
            </a:r>
            <a:r>
              <a:rPr b="1" lang="pl-PL" sz="3600" spc="-1" strike="noStrike">
                <a:solidFill>
                  <a:srgbClr val="333333"/>
                </a:solidFill>
                <a:latin typeface="Symbol"/>
                <a:ea typeface="Symbol"/>
              </a:rPr>
              <a:t>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pl-PL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pl-PL" sz="3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=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6"/>
          <p:cNvSpPr/>
          <p:nvPr/>
        </p:nvSpPr>
        <p:spPr>
          <a:xfrm>
            <a:off x="2800440" y="2266920"/>
            <a:ext cx="38160" cy="362160"/>
          </a:xfrm>
          <a:custGeom>
            <a:avLst/>
            <a:gdLst>
              <a:gd name="textAreaLeft" fmla="*/ 0 w 38160"/>
              <a:gd name="textAreaRight" fmla="*/ 38520 w 3816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24" h="228">
                <a:moveTo>
                  <a:pt x="0" y="0"/>
                </a:moveTo>
                <a:lnTo>
                  <a:pt x="24" y="228"/>
                </a:lnTo>
              </a:path>
            </a:pathLst>
          </a:custGeom>
          <a:noFill/>
          <a:ln w="57240">
            <a:solidFill>
              <a:srgbClr val="aba1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7"/>
          <p:cNvSpPr/>
          <p:nvPr/>
        </p:nvSpPr>
        <p:spPr>
          <a:xfrm>
            <a:off x="3657600" y="1066680"/>
            <a:ext cx="3467160" cy="150516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1505160"/>
              <a:gd name="textAreaBottom" fmla="*/ 1505520 h 1505160"/>
            </a:gdLst>
            <a:ahLst/>
            <a:rect l="textAreaLeft" t="textAreaTop" r="textAreaRight" b="textAreaBottom"/>
            <a:pathLst>
              <a:path w="2184" h="948">
                <a:moveTo>
                  <a:pt x="2184" y="0"/>
                </a:moveTo>
                <a:lnTo>
                  <a:pt x="288" y="180"/>
                </a:lnTo>
                <a:lnTo>
                  <a:pt x="0" y="948"/>
                </a:lnTo>
              </a:path>
            </a:pathLst>
          </a:custGeom>
          <a:noFill/>
          <a:ln w="57240">
            <a:solidFill>
              <a:srgbClr val="aba1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2133720" y="2514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2 &lt; </a:t>
            </a:r>
            <a:r>
              <a:rPr b="1" lang="pl-PL" sz="3600" spc="-1" strike="noStrike">
                <a:solidFill>
                  <a:srgbClr val="321ae2"/>
                </a:solidFill>
                <a:latin typeface="Times New Roman"/>
              </a:rPr>
              <a:t>7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 &lt;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4343400" y="2209680"/>
            <a:ext cx="990720" cy="419400"/>
          </a:xfrm>
          <a:custGeom>
            <a:avLst/>
            <a:gdLst>
              <a:gd name="textAreaLeft" fmla="*/ 0 w 990720"/>
              <a:gd name="textAreaRight" fmla="*/ 991080 w 99072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624" h="264">
                <a:moveTo>
                  <a:pt x="624" y="0"/>
                </a:moveTo>
                <a:lnTo>
                  <a:pt x="0" y="264"/>
                </a:lnTo>
              </a:path>
            </a:pathLst>
          </a:custGeom>
          <a:noFill/>
          <a:ln w="57240">
            <a:solidFill>
              <a:srgbClr val="aba1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0" y="3124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33"/>
                </a:solidFill>
                <a:latin typeface="Times New Roman"/>
              </a:rPr>
              <a:t>Oznacza to, że istnieje trójkąt o bokach długości      3 , 5 i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1"/>
          <p:cNvSpPr/>
          <p:nvPr/>
        </p:nvSpPr>
        <p:spPr>
          <a:xfrm>
            <a:off x="4572000" y="4876920"/>
            <a:ext cx="25192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5105520" y="4768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3"/>
          <p:cNvSpPr/>
          <p:nvPr/>
        </p:nvSpPr>
        <p:spPr>
          <a:xfrm>
            <a:off x="3479760" y="3784680"/>
            <a:ext cx="2158920" cy="21589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8"/>
          <p:cNvSpPr/>
          <p:nvPr/>
        </p:nvSpPr>
        <p:spPr>
          <a:xfrm>
            <a:off x="5257800" y="3048120"/>
            <a:ext cx="3598920" cy="3598920"/>
          </a:xfrm>
          <a:prstGeom prst="ellipse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9"/>
          <p:cNvSpPr/>
          <p:nvPr/>
        </p:nvSpPr>
        <p:spPr>
          <a:xfrm flipV="1">
            <a:off x="4572000" y="4190760"/>
            <a:ext cx="838080" cy="6858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20"/>
          <p:cNvSpPr/>
          <p:nvPr/>
        </p:nvSpPr>
        <p:spPr>
          <a:xfrm>
            <a:off x="5410080" y="4191120"/>
            <a:ext cx="1676520" cy="6858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056" h="432">
                <a:moveTo>
                  <a:pt x="1056" y="43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75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4572000" y="41148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6019920" y="3962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7572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23"/>
          <p:cNvSpPr/>
          <p:nvPr/>
        </p:nvSpPr>
        <p:spPr>
          <a:xfrm>
            <a:off x="4572000" y="4191120"/>
            <a:ext cx="2495520" cy="6858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572" h="432">
                <a:moveTo>
                  <a:pt x="0" y="432"/>
                </a:moveTo>
                <a:lnTo>
                  <a:pt x="1572" y="432"/>
                </a:lnTo>
                <a:lnTo>
                  <a:pt x="528" y="0"/>
                </a:lnTo>
                <a:lnTo>
                  <a:pt x="0" y="432"/>
                </a:lnTo>
                <a:close/>
              </a:path>
            </a:pathLst>
          </a:custGeom>
          <a:solidFill>
            <a:srgbClr val="f5cdd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24">
            <a:hlinkClick r:id="" action="ppaction://hlinkshowjump?jump=previousslide"/>
          </p:cNvPr>
          <p:cNvSpPr/>
          <p:nvPr/>
        </p:nvSpPr>
        <p:spPr>
          <a:xfrm>
            <a:off x="0" y="579132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10800"/>
                </a:moveTo>
                <a:lnTo>
                  <a:pt x="17812" y="3794"/>
                </a:lnTo>
                <a:lnTo>
                  <a:pt x="17812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75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1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75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35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75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725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2225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725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7225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75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4825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9325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825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6325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8825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2325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5825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9325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1825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4325"/>
                            </p:stCondLst>
                            <p:childTnLst>
                              <p:par>
                                <p:cTn id="299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06:55:11Z</dcterms:created>
  <dc:creator>ZSR</dc:creator>
  <dc:description/>
  <dc:language>en-US</dc:language>
  <cp:lastModifiedBy>Hanna Kargol</cp:lastModifiedBy>
  <dcterms:modified xsi:type="dcterms:W3CDTF">2010-11-05T07:04:22Z</dcterms:modified>
  <cp:revision>85</cp:revision>
  <dc:subject/>
  <dc:title>Bez tytułu slajdu</dc:title>
</cp:coreProperties>
</file>