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E2B-27F7-42F8-84CC-994680BD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F99-DE85-4568-AAE8-F6B73C0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96478-FEB7-4402-B79B-9D882987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F9EC9-00EA-466F-9F46-8B4261FF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70E88-560A-410E-AFF9-1F94D67F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E9889-5FD4-41F7-AB49-E2EC8D9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F6FA9-23BB-41BC-8E55-9F34E79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BFA1D-A2B5-4521-A5BE-60B8BCF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9DE6D-A42F-4EAE-8CBA-8D5B275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612EF-01CF-4A0C-A6FA-94386768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9634A-79E9-42BA-A926-D5FA6805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EF199-E8E4-4820-85FC-33E33875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00C-FEBF-4916-9719-7B52BAFC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8A0A-6BBD-412E-A538-6F5BDB05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B9892-5E3B-4F14-B072-EE41C10C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E6AEA-1C71-4D91-8B73-74DE4BC7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46532-1DA9-43C7-B947-424CB32F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A4EA1-F5B4-482F-B1EC-D09FDED6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B5B76-5292-4750-B1C8-59D8E14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D049F-066D-415F-A432-1AC57CB5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7C542-1763-4A37-BB78-865145D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A4585-B2B0-45E5-A451-00F964AA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813CC-EB32-4717-898A-363B5EA5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466-11EB-4AC2-8E89-4C9CC30F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3DEB5-BEC0-4DDF-A051-CBF034D2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9C951-1D49-47F8-B5E4-0E544391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5CA2F-87FD-4CD3-A1B1-C1D0543C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14E43-AF98-45DA-AD3F-574E5BC0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C45C-3219-48DF-B2A8-FA3DEE69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5321F-175B-4303-8BC7-93AF106E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B0655-CC3C-4405-8176-E944833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A35DC-D699-4450-89E9-DA2B0757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C1460-1461-4A8E-9532-1863873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E59F1-B406-4E17-955A-4C7F6E4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8767-01E1-4BBB-AFD3-F5563DEB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365CE-FCB6-4B6E-8595-CE394D9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B8B35-AE85-40B7-98C6-2157F312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9A25-FB63-4917-B76A-58D8695D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A29DA-E157-4DF4-852D-5C79E4A2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7181F-0FBB-4E29-9C1E-13AE0F5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3D18E-A23C-4D4E-99DA-8CF91D88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DE029-3B2D-4C04-8EDC-725BABF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02E64-AFC6-4872-A751-4FCE87FC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14D80-795C-49F5-BA75-EA417363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7BCF7-83A9-4D98-9C84-19E0F9DB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3B98-8CF9-4529-9DDB-72AD438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4E074-0D83-4977-A4F6-F02AEBF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D2074-7FAB-40DA-93BD-C7D4B7E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3B9EC-50B8-4B24-AA4E-E1EE8B5B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9C6E7-643A-43D6-84D4-36DCD56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09DAF-79FC-4AF7-8C96-BD0CD52C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62BFA-E06E-49B7-8A67-F42E265F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2D862-747B-416F-97C0-713A9AE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2830D-12AE-4733-9245-61F5532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1F64E-2921-4E1E-B7E2-15E4808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28032-B36A-4FFD-B679-B86660F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C0C5-76E4-44DE-A43D-7603E5A2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C6422-EB52-4989-849F-D60ED27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18DB4-2844-4789-AB76-BC93C95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81D6C-D681-4390-ADD8-40DB408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4CE7C-6B44-4B9D-80A5-1AA1364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947C8-9B33-4793-9F20-1AE114F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07969-0C25-46C5-8C7A-681561D4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078DD-1F55-4640-8C3A-3F0490BE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858AF-6355-41A1-9D13-4CB3BE17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1E2DD-E711-4DCC-A515-A8234921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B42FE-794A-43C2-81B9-49C2925D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8B6F-6932-49E5-A653-2D78D3E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F1F04-8336-4B7B-9629-544A8BB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06E04-A28B-4126-B209-6B9DEC2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2A44F-FC16-432F-AC0B-DC82EFED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E143F-2B52-4922-8755-E002E5C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4061B-C37C-43B1-A2DB-D61DF77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4168C-781F-4EAD-A434-4A32DF1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AF5A2-A33A-4179-B893-5FCF9AA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53690-2C7A-447F-B209-FC226FFB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853D9-4E86-4404-9CCE-2B01E99A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BA883-72B0-47DE-867B-0A4810EC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3E8C-65C4-4D93-AEE7-6D1957E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2393E-2B2C-42E1-AF95-6670D31B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3CD9F-7227-41A9-B936-BB92CC53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29901-9567-475B-9534-A03B4DA1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B57E5-6D70-440C-9CB6-471C7F8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FB52C-5736-4D29-81ED-0714B03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A67F3-614F-4134-9EF8-185040F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C2D96-88A5-467A-92B7-660C1FA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27615-7E10-4CB0-8A3B-0DDC9E0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299B6-33F4-4305-9F95-CF09F441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1F3B6-9A6F-4BBE-B6B3-2A54CA77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E217-FDE1-4400-9D75-7F12511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03240-2FD0-4C0F-A069-1E9B3DB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839C6E-F680-44FD-95A9-E0A13D39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693E03-9D49-4E9A-890E-566CCEBE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D63F70-52A9-4BBB-A06B-E35533B2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8F50C6-BCC6-474E-A2E1-9A638A49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0FE71A-73F6-46E4-B961-F83E90B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CCC649-F46E-4D03-826D-847164E9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CADC28-442F-40D1-BEFA-92F9ABCD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10F5B4-B581-4931-91EA-1E746974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9FBA9F-A5BA-4E6B-9A76-91CBCBC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159C-AC12-47DE-BA1F-4423F935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D05142-F9A8-43B8-B61D-C49F238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4C194B-232E-49FB-B554-AC15C93B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A1A578-F6A4-4593-9E2B-4AAF4970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D6F-459C-4FB8-B917-FEDCC48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3998-C9A8-495C-A281-1F8419E1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681B-E7E5-4ACA-9021-6387300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A88-8770-4074-812F-967CB790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4614-754C-4172-851E-DE86A08D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1C2E-94F5-412B-AF28-0814C699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1D5A-E3AD-4953-AE05-A05DCD10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B780-3A26-4A99-B053-98A2EF8F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DE12-8097-4850-910C-BF0A213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CC68-F579-4039-9E2E-E01AC465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7C18-E39B-4579-9A4D-697C2DD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9FB-9C47-4633-A8AB-02DCE7C7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B05A-D255-4BEB-869A-0B26685A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6179-A54A-420C-987C-7721D00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D9E8-04BF-4D3E-BBEB-3B66C3A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34F1-C957-40D1-BD42-97E5DA5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5C24-8951-4702-91D7-03D06BC2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383C-75F6-49E9-B1B0-0ED0F7F4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E238-1D84-4A1B-8AD5-6085E917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FC2E-16EA-46A0-8F7A-21F8C79E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D7A8-60C6-4234-8617-E7E223D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851B-0FF6-4B4E-8094-2A1198ED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8E8-2A76-4552-865F-56972244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DC24-4D94-4912-9466-55144872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BA33-7155-4753-A755-18C1900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4668-3A50-4A69-ACEC-7531E227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7177-8C80-4E12-8D14-2427604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6E51-8458-43CA-9B8B-3A20E9A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4CEE-5D31-447D-8274-77410F7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06C4-7744-49ED-B0D4-E24EDA3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4545-5E4B-443E-90A3-E051090A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53D5-11AE-43D0-846B-A89D51C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7CE19-B3E7-4E81-9896-8E20E3AD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508-4890-4952-B505-689F7DC7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5148B-431B-4E93-9FFA-B57DAE22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D4488-680C-4912-A9F7-5FABAF5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F9EE3-F0C4-4728-8DB7-5671E98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BBBBA-08C0-44CF-8017-043014D9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45942-026C-4EDD-A26F-80CFC38E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01A8B-2A2C-4615-B694-682E042E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D0082-8032-4EB4-8393-2CCBD94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CC4B9-79D8-4772-8267-DB7755C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32ADD-2BBD-426A-9E90-B5B8CEED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4D1E1-2C8E-4A45-B774-09F5AB7B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FAC-B4FF-4EAC-BC44-18E30B5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92D1C-B937-431E-BCAE-BF84DAFE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FDDB-88B7-4551-8548-0209BB6C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68FF-59A9-4693-BF31-84B8E549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5BF6-EC4B-48E9-9ED1-DFD0A6F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C3E1-FB82-450B-AA89-10EDEB2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24E0-AF56-450A-9667-90339050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1F1F4-89EC-4022-8206-6669195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F540C-B729-441E-8B3D-A28458F8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A96B-FEE3-458A-9535-F1A76CF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023A-539B-4CC4-B16B-1838D4B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45A-ECD8-4A2A-BA94-47B37990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A12E-4388-4995-9E57-6728E7DF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3E88-82A8-41B4-88FE-C68ACF73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74DC2-DE5A-46DF-A4D4-D44F15DC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4E9E4-77FB-43AF-9017-FC5898C6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F9D32-B6AB-4B53-A7ED-9EAFD5C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7859-528F-4ED5-8BE1-90C51D0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1EF3E-6882-47AC-87E2-B61D7D51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49D2-D0F7-4D51-B13A-0BF8775E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E21F-4A81-4791-BED0-8CC6556B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D09DD-25AC-4ADF-AEC9-6B03BD1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511-E350-4D00-8700-82FA00F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18F0-0156-4D4E-8043-B7B7AC51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A333-5A29-4EC8-A377-457FCE3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45BF-4B47-4795-A366-C3659506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8086C-095E-45FB-A27E-2ACE9FB1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BD470-8A7A-44E0-B5F1-83811A2B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E67CC-8359-4990-A879-D97422BE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5114-61AA-4532-8313-B55749E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7FF5-0D81-4A59-B173-3DD24B8B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2A3C-681F-4149-9D09-6B73C043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ADD70-EF53-46B1-A18A-942A1597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361-0A9E-468D-98D0-0A58B5B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3874-9A17-4DB4-8E01-3A5C4523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80219-CC5A-4B42-AD7E-6CE1247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F0359-0ABA-4080-A6F7-E4579EC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2A3F-343D-4685-8A8D-C59C789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7D6F-DC3B-49E4-9DDF-1CC36C1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205AF-CC72-4831-B1AA-8E963050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4FC2B-0042-43F1-9824-4F5ACB75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8E970-4CC3-4FE2-9A8E-F0DEB276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AF1DE-9415-4294-871F-82D437B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4BEC0-2E1F-46CA-96F3-06EECDBD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C709-F0BD-4EF4-8AD5-ABD5D3A29B53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34E-DB70-44F0-946F-97BB7D45C365}" type="slidenum">
              <a:rPr b="0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75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0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4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85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85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86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87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5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258-0044-459F-A6A8-BAC403FD9F19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91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92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6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7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01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03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F5F1-64A8-4C08-923C-6EF74D3A6E7F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927-2C78-487F-A17C-32A53652FA75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3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9E9-118A-43CC-973E-DE4175442352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9D26-6B35-4BA7-8660-DE1D8882636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4ED8-34A7-4FB3-B002-52AF8B9179C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6536-5645-46AA-9268-B0ADD229ED09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1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B176-CFB8-47AE-907F-BAD29916B9B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7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7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8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0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2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F645-C214-4AA3-AD12-34D12540440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8150-8F08-49F7-A943-B3770C6FD621}" type="slidenum">
              <a:rPr b="0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89B-6239-4BA9-BB91-FCDD342D669A}" type="slidenum">
              <a:rPr b="0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3DA9-0A6D-4E69-B10F-3B808A30060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0CFA-D4F1-411F-B1A8-DC2829CD284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FF8A-8E67-4CCA-869A-4EBE4C597909}" type="slidenum">
              <a:rPr b="0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ATEMATYK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0" y="10029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OLA WSPÓŁCZYNNIKA KIERUNKOWEG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- współczynnik kierunkowy prostej y = ax + b 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= tangens kąta nachylenia prostej y = ax + b do osi OX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eżeli a &gt; 0, to funkcja liniowa jest rosnąca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eżeli a &lt; 0, to funkcja liniowa jest malejąca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eżeli a = 0, to funkcja liniowa jest stała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2627280" y="569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Własności funkcji y = ax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619280" y="1268280"/>
          <a:ext cx="5894280" cy="4550040"/>
        </p:xfrm>
        <a:graphic>
          <a:graphicData uri="http://schemas.openxmlformats.org/drawingml/2006/table">
            <a:tbl>
              <a:tblPr/>
              <a:tblGrid>
                <a:gridCol w="2970360"/>
                <a:gridCol w="292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la a &gt; 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la a &lt; 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D = R, Y =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Miejsce zerowe:  x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0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rosnąca dla x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różnowartościowa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Posiada funkcję odwrotną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Jest nieparzysta, bo wykres jest 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etryczny względem punktu  (0;0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Nie osiąga wartości największej ani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jmniejszej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y &gt; 0 dla x &gt; 0; y &lt; 0 dla x &lt; 0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Wykresem funkcji jest linia prost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hylona do osi OX pod kątem  ostrym przechodząca przez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. (0;0)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D = R, Y =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Miejsce zerowe:  x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0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malejąca dla x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różnowartościowa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Posiada funkcję odwrotną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Jest nieparzysta, bo wykres jest 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etryczny względem punktu (0;0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Nie osiąga wartości największej ani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jmniejszej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y &gt; 0 dla x &lt; 0; y &lt; 0 dla x &gt; 0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Wykresem funkcji jest linia prosta  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hylona do osi OX pod kątem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zwartym przechodząca przez  p.(0;0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-329760" y="2045880"/>
            <a:ext cx="9801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niose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cje te różnią się kątem nachylenia do osi OX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oich wykresów oraz monotonicznością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tóra wiąże się z kątem nachylenia wykresów do osi OX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atego współczynnik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zywa się współczynnikiem kierunkowym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 wpływa na kierunek prostej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KCJA LINIOW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755640" y="1818360"/>
            <a:ext cx="770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unkcję określoną wzore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y = ax + b,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dzie a i b są ustalonymi liczbami rzeczywistymi, nazywamy FUNKCJĄ LINIOWĄ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55960" y="4869000"/>
            <a:ext cx="902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gdzie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a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nazywamy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 współczynnikiem kierunkowym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który decyduje o nachyleniu wykresu do osi X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nazywamy 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wyrazem wolnym,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który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wyznacza punkt przecięcia wykresu z osią Y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1492200" y="765000"/>
            <a:ext cx="6232680" cy="5832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971640" y="2012040"/>
            <a:ext cx="70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ziedziną funkcji liniowej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est zbiór liczb rzeczywistych 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ykresem funkcji liniowej jest prosta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0" y="259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FUNKCJA POSTACI y = a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25440" y="980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83" name=""/>
          <p:cNvGraphicFramePr/>
          <p:nvPr/>
        </p:nvGraphicFramePr>
        <p:xfrm>
          <a:off x="395280" y="1916280"/>
          <a:ext cx="7315200" cy="4870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y = 2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4105080" cy="414360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395280" y="907920"/>
            <a:ext cx="65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Przykład 1 Sporzadzić wykresy funkcji y = 2x </a:t>
            </a:r>
            <a:br>
              <a:rPr sz="1800"/>
            </a:b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Sporządzamy tabelki wartości funkcji dla kilku argumentó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i zaznaczamy punkty w układzie współrzędnych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51120" y="691920"/>
            <a:ext cx="65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Przykład 2 Sporzadzić wykresy funkcji y = -2x </a:t>
            </a:r>
            <a:br>
              <a:rPr sz="1800"/>
            </a:b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Sporządzamy tabelki wartości funkcji dla kilku argumentó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i zaznaczamy punkty w układzie współrzędnych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395280" y="1844640"/>
          <a:ext cx="7315200" cy="4874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y = -2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2771640" y="2714760"/>
            <a:ext cx="4105440" cy="414324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0" y="191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FUNKCJA POSTACI y = -a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-159480" y="1874160"/>
            <a:ext cx="6202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3767"/>
                </a:solidFill>
                <a:latin typeface="Tahoma"/>
                <a:ea typeface="Tahoma"/>
              </a:rPr>
              <a:t>Wykresy funkcji liniowej w zależności od współczynnika kierunkowego a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0" y="1989000"/>
          <a:ext cx="9144000" cy="26798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67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en-US" sz="142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     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en-US" sz="133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2" name=""/>
          <p:cNvSpPr/>
          <p:nvPr/>
        </p:nvSpPr>
        <p:spPr>
          <a:xfrm>
            <a:off x="-3960" y="4678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3767"/>
                </a:solidFill>
                <a:latin typeface="Tahoma"/>
                <a:ea typeface="Tahoma"/>
              </a:rPr>
              <a:t>Dla a = 0 funkcja jest stała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314440" cy="226692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2143080" cy="2114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e4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179280" y="120132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 podstawie tych dwóch funkcj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kreślimy własności funkcji y = ax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ziedziną funkcji jest zbiór liczb rzeczywistych R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biorem wartości funkcji jest zbiór liczb rzeczywistych 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ykresem funkcji liniowej jest prost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hodząca przez punkty (0,0) i (1,a)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eżeli a &gt; 0 to funkcja jest rosnąca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eżeli a &lt; 0 to funkcja jest malejąc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0:01:23Z</dcterms:created>
  <dc:creator>Zbyszek</dc:creator>
  <dc:description/>
  <dc:language>en-US</dc:language>
  <cp:lastModifiedBy>.</cp:lastModifiedBy>
  <dcterms:modified xsi:type="dcterms:W3CDTF">2009-08-05T11:48:54Z</dcterms:modified>
  <cp:revision>6</cp:revision>
  <dc:subject/>
  <dc:title>MATEMATYKA</dc:title>
</cp:coreProperties>
</file>