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SWIST.WAV" ContentType="audio/x-wav"/>
  <Override PartName="/ppt/media/image7.png" ContentType="image/png"/>
  <Override PartName="/ppt/media/image6.png" ContentType="image/png"/>
  <Override PartName="/ppt/media/LASER.WAV" ContentType="audio/x-wav"/>
  <Override PartName="/ppt/media/image4.png" ContentType="image/png"/>
  <Override PartName="/ppt/media/image10.png" ContentType="image/png"/>
  <Override PartName="/ppt/media/image5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MASZYNA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528-8AAD-4908-B2EC-61150886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8C8-D3B3-4453-8099-9F5FDBA8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3B1-9A08-4A1A-92B5-E88A0C8D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65F-6E0F-45A9-A553-87BA8C11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5F13-84F7-453F-BF12-A58839F3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56A5-A9D6-4FD4-B6B7-2A22B658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26B1-CCF3-4C18-9E1A-D15D1080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94B-0315-4315-AB1D-045AEB3E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A54D-6DB6-47D1-9BF1-372A86B6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A22C-681F-4296-8E1D-56C8C7D8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6811-AC7B-4B1E-AA52-199E31DF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606-668D-4655-B338-485EF469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B1F6-5649-41C3-942E-5058D7E4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9356-18D3-4F1E-9919-B24399BA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ADBD-32E1-4663-9DDA-3A5EE43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9DB4-FEEB-4EC2-AC27-424D8B6B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FF3F-022F-43B9-9EA7-BF177DE9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B91-203E-471E-8E98-78D219E2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BE0-7FBD-4F8B-9A23-C70A3034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D07-1C6C-4D39-BCF3-B5BA8586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126-CA7F-49E3-8BEA-E5D5523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BD2-0F04-48AD-BA5C-37275E47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E00-9D10-41E8-8000-6C75E946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CAB-354B-4921-887E-6CD7564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1AF2-FDD8-4BD5-A903-A15367E26DA0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DB1D-EE8F-4FDA-A4EC-1D15D8FE9450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SZYN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WIST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772400" cy="213372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600" spc="-1" strike="noStrike" u="sng">
                <a:solidFill>
                  <a:srgbClr val="800000"/>
                </a:solidFill>
                <a:uFillTx/>
                <a:latin typeface="Times New Roman"/>
              </a:rPr>
              <a:t>Koło i okrąg</a:t>
            </a:r>
            <a:endParaRPr b="0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213336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100000">
                <a:srgbClr val="762f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imes New Roman"/>
              </a:rPr>
              <a:t>Wzajemne położenie dwóch okręgó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1) okręgi nie mają punktów wspólnych i są położone na zewnątrz siebie( O1O2 &gt;r1+r2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914400" y="2438280"/>
          <a:ext cx="777240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772400" cy="3990960"/>
                  </a:xfrm>
                  <a:prstGeom prst="rect">
                    <a:avLst/>
                  </a:prstGeom>
                  <a:ln w="936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) okręgi są styczne zewnętrznie</a:t>
            </a:r>
            <a:br>
              <a:rPr sz="4000"/>
            </a:b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( O1O2 =r1+r2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1908000" y="1828800"/>
          <a:ext cx="5937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28800"/>
                    <a:ext cx="5937480" cy="4114800"/>
                  </a:xfrm>
                  <a:prstGeom prst="rect">
                    <a:avLst/>
                  </a:prstGeom>
                  <a:ln w="2844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3) okręgi przecinają się </a:t>
            </a:r>
            <a:br>
              <a:rPr sz="4000"/>
            </a:b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( r1-r2 &lt; O1O2 &lt;r1+r2)</a:t>
            </a:r>
            <a:r>
              <a:rPr b="0" lang="pl-PL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2122560" y="1828800"/>
          <a:ext cx="550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828800"/>
                    <a:ext cx="5506920" cy="4114800"/>
                  </a:xfrm>
                  <a:prstGeom prst="rect">
                    <a:avLst/>
                  </a:prstGeom>
                  <a:ln w="28440">
                    <a:solidFill>
                      <a:srgbClr val="402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4) okręgi są styczne zewnętrznie</a:t>
            </a:r>
            <a:br>
              <a:rPr sz="4000"/>
            </a:b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( O1O2 = r1-r2 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2897280" y="1828800"/>
          <a:ext cx="3957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1828800"/>
                    <a:ext cx="3957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93d39c"/>
              </a:gs>
              <a:gs pos="50000">
                <a:srgbClr val="446248"/>
              </a:gs>
              <a:gs pos="100000">
                <a:srgbClr val="93d39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5) okręgi są rozłączne zewnętrznie </a:t>
            </a:r>
            <a:br>
              <a:rPr sz="4000"/>
            </a:b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( O1O2 &lt; r1-r2 &gt;=0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819520" y="2057400"/>
          <a:ext cx="411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057400"/>
                    <a:ext cx="4114800" cy="4114800"/>
                  </a:xfrm>
                  <a:prstGeom prst="rect">
                    <a:avLst/>
                  </a:prstGeom>
                  <a:ln w="28440">
                    <a:solidFill>
                      <a:srgbClr val="402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440ebe"/>
                </a:solidFill>
                <a:latin typeface="Times New Roman"/>
              </a:rPr>
              <a:t>Kąt środkowy wypukł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2254320" y="1828800"/>
          <a:ext cx="5243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4320" y="1828800"/>
                    <a:ext cx="5243400" cy="4114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440ebe"/>
                </a:solidFill>
                <a:latin typeface="Times New Roman"/>
              </a:rPr>
              <a:t>Kąt środkowy wklęsł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514600" y="2057400"/>
          <a:ext cx="4697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57400"/>
                    <a:ext cx="4697280" cy="4114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f5e2f"/>
              </a:gs>
              <a:gs pos="50000">
                <a:srgbClr val="cdcb65"/>
              </a:gs>
              <a:gs pos="100000">
                <a:srgbClr val="5f5e2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ca309"/>
                </a:solidFill>
                <a:latin typeface="Times New Roman"/>
              </a:rPr>
              <a:t>Twierdzenie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 u="sng">
                <a:solidFill>
                  <a:srgbClr val="0e7b0b"/>
                </a:solidFill>
                <a:uFillTx/>
                <a:latin typeface="Times New Roman"/>
              </a:rPr>
              <a:t>”</a:t>
            </a:r>
            <a:r>
              <a:rPr b="0" i="1" lang="pl-PL" sz="2800" spc="-1" strike="noStrike" u="sng">
                <a:solidFill>
                  <a:srgbClr val="0e7b0b"/>
                </a:solidFill>
                <a:uFillTx/>
                <a:latin typeface="Times New Roman"/>
              </a:rPr>
              <a:t>Jeśli kąt wpisany i kąt środkowy są oparte na tym samym łuku, to kąt środkowy jest dwa razy większy od kąta wpisanego.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4800600" y="2057400"/>
          <a:ext cx="380988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057400"/>
                    <a:ext cx="3809880" cy="31575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7772400" cy="1143000"/>
          </a:xfrm>
          <a:prstGeom prst="rect">
            <a:avLst/>
          </a:prstGeom>
          <a:gradFill rotWithShape="0">
            <a:gsLst>
              <a:gs pos="0">
                <a:srgbClr val="93d39c"/>
              </a:gs>
              <a:gs pos="50000">
                <a:srgbClr val="446248"/>
              </a:gs>
              <a:gs pos="100000">
                <a:srgbClr val="93d39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8000"/>
                </a:solidFill>
                <a:latin typeface="Times New Roman"/>
              </a:rPr>
              <a:t>Wielokąty wpisane w okrąg i opisane  na okręgu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 u="sng">
                <a:solidFill>
                  <a:srgbClr val="ce9964"/>
                </a:solidFill>
                <a:uFillTx/>
                <a:latin typeface="Times New Roman"/>
              </a:rPr>
              <a:t>Definicja koła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a08366"/>
                </a:solidFill>
                <a:latin typeface="Times New Roman"/>
              </a:rPr>
              <a:t>Kołem 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o środku w punkcie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O 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i promieniu długości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r&gt;0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 nazywamy zbiór wszystkich punktów płaszczyzny, których odległość od punktu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 jest mniejsza lub równa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r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.</a:t>
            </a:r>
            <a:r>
              <a:rPr b="0" i="1" lang="pl-PL" sz="28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Oval 7"/>
          <p:cNvSpPr/>
          <p:nvPr/>
        </p:nvSpPr>
        <p:spPr>
          <a:xfrm>
            <a:off x="5943600" y="3124080"/>
            <a:ext cx="1981080" cy="198144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6934320" y="4114800"/>
            <a:ext cx="609480" cy="762120"/>
          </a:xfrm>
          <a:prstGeom prst="line">
            <a:avLst/>
          </a:prstGeom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69168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224840" y="41529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ce9964"/>
              </a:gs>
              <a:gs pos="100000">
                <a:srgbClr val="5f472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3300"/>
                </a:solidFill>
                <a:latin typeface="Times New Roman"/>
              </a:rPr>
              <a:t>Wielokąt wpisany w okrą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a8a28"/>
                </a:solidFill>
                <a:latin typeface="Times New Roman"/>
              </a:rPr>
              <a:t>Wielokąt jest wpisany w okrąg, jeżeli każdy wierzchołek wielokąta leży na okręgu. O okręgu mówimy wówczas, że jest opisany na wielokąci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4800600" y="1981080"/>
          <a:ext cx="380988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30672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ce9964"/>
              </a:gs>
              <a:gs pos="100000">
                <a:srgbClr val="5f472e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3300"/>
                </a:solidFill>
                <a:latin typeface="Times New Roman"/>
              </a:rPr>
              <a:t>Okrąg wpisany w wieloką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a8a28"/>
                </a:solidFill>
                <a:latin typeface="Times New Roman"/>
              </a:rPr>
              <a:t>Wielokąt jest opisany na okręgu, jeżeli każdy bok wielokąta jest styczny do okręgu. O okręgu mówimy wtedy,że jest wpisany w wieloką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4800600" y="1828800"/>
          <a:ext cx="38098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3809880" cy="3546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133b05"/>
                </a:solidFill>
                <a:latin typeface="Times New Roman"/>
              </a:rPr>
              <a:t>Okrąg wpisany w czworoką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1143000" y="2057400"/>
          <a:ext cx="380988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3809880" cy="33195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2000"/>
                </a:solidFill>
                <a:latin typeface="Times New Roman"/>
              </a:rPr>
              <a:t>Twierdzenie: </a:t>
            </a:r>
            <a:r>
              <a:rPr b="0" i="1" lang="pl-PL" sz="2800" spc="-1" strike="noStrike" u="sng">
                <a:solidFill>
                  <a:srgbClr val="449e28"/>
                </a:solidFill>
                <a:uFillTx/>
                <a:latin typeface="Times New Roman"/>
              </a:rPr>
              <a:t>„ Jeśli okrąg jest wpisany w czworokąt, to suma długości przeciwległych boków tego czworokąta są równe.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66"/>
                </a:solidFill>
                <a:latin typeface="Times New Roman"/>
              </a:rPr>
              <a:t>Okrąg opisany na czworokąci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001880" y="1828800"/>
          <a:ext cx="3786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828800"/>
                    <a:ext cx="3786120" cy="41148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2000"/>
                </a:solidFill>
                <a:latin typeface="Times New Roman"/>
              </a:rPr>
              <a:t>Twierdzenie: </a:t>
            </a:r>
            <a:r>
              <a:rPr b="0" i="1" lang="pl-PL" sz="2800" spc="-1" strike="noStrike" u="sng">
                <a:solidFill>
                  <a:srgbClr val="472fd7"/>
                </a:solidFill>
                <a:uFillTx/>
                <a:latin typeface="Times New Roman"/>
              </a:rPr>
              <a:t>„Jeżeli okrąg jest opisany na czworokącie, to sumy kątów przeciwległych czworokąta są równe i wynoszą 180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ce9964"/>
                </a:solidFill>
                <a:latin typeface="Times New Roman"/>
              </a:rPr>
              <a:t>Definicja okręgu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800000"/>
                </a:solidFill>
                <a:latin typeface="Times New Roman"/>
              </a:rPr>
              <a:t>Okręgiem</a:t>
            </a:r>
            <a:r>
              <a:rPr b="1" i="1" lang="pl-PL" sz="28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o środku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 i promieniu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r&gt;O 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nazywamy zbiór wszystkich punktów płaszczyzny, których odległość od punktu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 wynosi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Object 5" descr=""/>
          <p:cNvPicPr/>
          <p:nvPr/>
        </p:nvPicPr>
        <p:blipFill>
          <a:blip r:embed="rId1"/>
          <a:stretch/>
        </p:blipFill>
        <p:spPr>
          <a:xfrm>
            <a:off x="4952880" y="2424240"/>
            <a:ext cx="3810240" cy="2922480"/>
          </a:xfrm>
          <a:prstGeom prst="rect">
            <a:avLst/>
          </a:prstGeom>
          <a:ln w="28440">
            <a:solidFill>
              <a:srgbClr val="402000"/>
            </a:solidFill>
            <a:miter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996633"/>
                </a:solidFill>
                <a:latin typeface="Times New Roman"/>
              </a:rPr>
              <a:t>W kole i okręgu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ażdy odcinek, którego jednym końcem jest środek</a:t>
            </a:r>
            <a:r>
              <a:rPr b="0" i="1" lang="pl-PL" sz="2400" spc="-1" strike="noStrike">
                <a:solidFill>
                  <a:srgbClr val="402000"/>
                </a:solidFill>
                <a:latin typeface="Times New Roman"/>
              </a:rPr>
              <a:t> O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okręgu, a drugi leży na okręgu, nazywamy promieniem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szystkie promienie są równej długości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ażdy odcinek, którego końce leżą na okręgu, nazywamy cięciwą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ięciwę, do której należy środek okręgu, nazywamy średnicą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ażdą część okręgu zawartą między dwoma jego punktami, nazywamy łukiem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41911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76472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800000"/>
                </a:solidFill>
                <a:latin typeface="Times New Roman"/>
              </a:rPr>
              <a:t>Położenie prostej i okręgu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137160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1) prosta ma dokładnie jeden punkt wspólny z okręgiem;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660066"/>
                </a:solidFill>
                <a:latin typeface="Times New Roman"/>
              </a:rPr>
              <a:t>Twierdzenie: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 „Jeżeli prosta 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k 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jest styczna do okręgu w punkcie 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A, 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to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promień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promień prowadzący do punktu styczności jest prostopadły do prostej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 k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.”</a:t>
            </a:r>
            <a:r>
              <a:rPr b="0" lang="pl-PL" sz="28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5486400" y="2762280"/>
          <a:ext cx="28954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762280"/>
                    <a:ext cx="2895480" cy="23986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Times New Roman"/>
              </a:rPr>
              <a:t>2) prosta ma dokładnie dwa punkty wspólne z okręgiem;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2093760" y="1828800"/>
          <a:ext cx="5565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828800"/>
                    <a:ext cx="5565960" cy="41148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Times New Roman"/>
              </a:rPr>
              <a:t>3) prosta nie ma punktów wspólnych z okręgiem;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2286000" y="1828800"/>
          <a:ext cx="47401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28800"/>
                    <a:ext cx="4740120" cy="42670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9900"/>
                </a:solidFill>
                <a:latin typeface="Times New Roman"/>
              </a:rPr>
              <a:t>Twierdzenie o odcinkach stycz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e8a5b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4e8a5b"/>
                </a:solidFill>
                <a:latin typeface="Times New Roman"/>
              </a:rPr>
              <a:t>Odcinki dwóch stycznych poprowadzonych do okręgu z punktu zewnętrznego, wyznaczone przez ten punkt i odpowiednie punkty styczności, są równej długości.”</a:t>
            </a:r>
            <a:r>
              <a:rPr b="0" lang="pl-P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4952880" y="2471760"/>
          <a:ext cx="381024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471760"/>
                    <a:ext cx="381024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07:33:16Z</dcterms:created>
  <dc:creator>Xxx</dc:creator>
  <dc:description/>
  <dc:language>en-US</dc:language>
  <cp:lastModifiedBy>Hanna Kargol</cp:lastModifiedBy>
  <dcterms:modified xsi:type="dcterms:W3CDTF">2009-08-05T17:52:18Z</dcterms:modified>
  <cp:revision>4</cp:revision>
  <dc:subject/>
  <dc:title>Koło i okrąg.</dc:title>
</cp:coreProperties>
</file>