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68F-A3EB-4890-8014-ECBDD1B7EFF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BD62-F403-4701-8C54-87A5B097DC1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ADB-F79D-433E-A567-2622A440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2C1-D246-4356-A9DA-A99B934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3F9-6AA1-4B09-B5C3-8064419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56F-EBCC-485A-AB29-3BCCE68B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ABD-EF7C-4A87-B2C0-EF9A3C26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706-1A1D-4386-8D6E-9680B7A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A83-ED8B-40A2-95FC-EF101A3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B34-F3CF-4E1D-8403-5D55239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DA1-AC85-4836-997A-C9E726D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1DA-A59C-415C-AAC5-F3A53A3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16A-28C3-4273-82E5-C4EBFB5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9BE-8011-4AB4-9634-4979A79F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A1E9-CC22-46FB-ABE1-BA5188D02F4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00"/>
                </a:solidFill>
                <a:latin typeface="Informal Roman"/>
              </a:rPr>
              <a:t>Czworokąty i ich własnośc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Baskerville Old Face"/>
              </a:rPr>
              <a:t>Każdy wielokąt mający cztery boki jest CZWOROKĄ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0" y="3429000"/>
            <a:ext cx="4616280" cy="2600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85800" y="4724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Czworokąt wypuk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2">
            <a:hlinkClick r:id="" action="ppaction://hlinkshowjump?jump=nextslide"/>
          </p:cNvPr>
          <p:cNvSpPr/>
          <p:nvPr/>
        </p:nvSpPr>
        <p:spPr>
          <a:xfrm>
            <a:off x="762012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2f7676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4419720" y="1905120"/>
            <a:ext cx="4302000" cy="4603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350532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Czworokąt wklęs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2133720" y="685800"/>
            <a:ext cx="4114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2971800" y="1523880"/>
            <a:ext cx="25146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3124080" y="1828800"/>
            <a:ext cx="22100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3048120" y="2362320"/>
            <a:ext cx="2590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3124080" y="2438280"/>
            <a:ext cx="2667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276720" y="2438280"/>
            <a:ext cx="1981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3505320" y="2590920"/>
            <a:ext cx="1523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3429000" y="2819520"/>
            <a:ext cx="144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3352680" y="2971800"/>
            <a:ext cx="17528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2"/>
          <p:cNvSpPr txBox="1"/>
          <p:nvPr/>
        </p:nvSpPr>
        <p:spPr>
          <a:xfrm>
            <a:off x="838080" y="914400"/>
            <a:ext cx="74678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apezoid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09680" y="38088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Monotype Corsiva"/>
              </a:rPr>
              <a:t>Trapezo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8080" y="18288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Trapezoid to czworokąty nie mające ani jednej pary boków równoległy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371600" y="3276720"/>
            <a:ext cx="1828800" cy="23619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120" y="4038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133720" y="2819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Monotype Corsiv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00400" y="3962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9051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371600" y="4495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809880" y="3581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Monotype Corsiva"/>
              </a:rPr>
              <a:t>Przykładem trapezoidu jest delt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733920" y="411480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Delt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[AB]=[AD]^[CD]=[B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3"/>
          <p:cNvSpPr txBox="1"/>
          <p:nvPr/>
        </p:nvSpPr>
        <p:spPr>
          <a:xfrm>
            <a:off x="2438280" y="0"/>
            <a:ext cx="4876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ONI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7620120" y="563868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9998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8153" y="3794"/>
                </a:lnTo>
                <a:lnTo>
                  <a:pt x="8153" y="17806"/>
                </a:lnTo>
                <a:lnTo>
                  <a:pt x="649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3520" y="4952880"/>
            <a:ext cx="670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Prezentacje przygotował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Agnieszka Szkopek i Paulina Gębic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38"/>
          <p:cNvSpPr/>
          <p:nvPr/>
        </p:nvSpPr>
        <p:spPr>
          <a:xfrm>
            <a:off x="0" y="990720"/>
            <a:ext cx="5105520" cy="586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37"/>
          <p:cNvSpPr/>
          <p:nvPr/>
        </p:nvSpPr>
        <p:spPr>
          <a:xfrm>
            <a:off x="380880" y="3429000"/>
            <a:ext cx="4419720" cy="312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6"/>
          <p:cNvSpPr/>
          <p:nvPr/>
        </p:nvSpPr>
        <p:spPr>
          <a:xfrm>
            <a:off x="2057400" y="3886200"/>
            <a:ext cx="243828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685800" y="4495680"/>
            <a:ext cx="1828800" cy="160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4"/>
          <p:cNvSpPr/>
          <p:nvPr/>
        </p:nvSpPr>
        <p:spPr>
          <a:xfrm>
            <a:off x="1143000" y="1219320"/>
            <a:ext cx="1295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2362320" y="5181480"/>
            <a:ext cx="160020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Monotype Corsiva"/>
              </a:rPr>
              <a:t>Podział czworokątów wypukł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cc99"/>
                </a:solidFill>
                <a:latin typeface="Times New Roman"/>
              </a:rPr>
              <a:t>1 Trapezo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ccccff"/>
                </a:solidFill>
                <a:latin typeface="Times New Roman"/>
              </a:rPr>
              <a:t>2 Trapez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3  Równoległobo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808080"/>
                </a:solidFill>
                <a:latin typeface="Times New Roman"/>
              </a:rPr>
              <a:t>4 Prostoką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5 Kwadr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b2b2b2"/>
                </a:solidFill>
                <a:latin typeface="Times New Roman"/>
              </a:rPr>
              <a:t>6 Rom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990720" y="1523880"/>
            <a:ext cx="99036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295280" y="2209680"/>
            <a:ext cx="762120" cy="11430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3200400" y="1828800"/>
            <a:ext cx="1143000" cy="609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2590920" y="2209680"/>
            <a:ext cx="1218960" cy="1067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762120" y="3886200"/>
            <a:ext cx="1676160" cy="609480"/>
          </a:xfrm>
          <a:prstGeom prst="parallelogram">
            <a:avLst>
              <a:gd name="adj" fmla="val 687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514600" y="4038480"/>
            <a:ext cx="16002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143000" y="4724280"/>
            <a:ext cx="99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666880" y="5257800"/>
            <a:ext cx="1067040" cy="1066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137160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3352680" y="23623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3581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152388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27432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2952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5909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1447920" y="4876920"/>
            <a:ext cx="53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29718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9">
            <a:hlinkClick r:id="" action="ppaction://hlinkshowjump?jump=nextslide"/>
          </p:cNvPr>
          <p:cNvSpPr/>
          <p:nvPr/>
        </p:nvSpPr>
        <p:spPr>
          <a:xfrm>
            <a:off x="7238880" y="571500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60" h="21600">
                <a:moveTo>
                  <a:pt x="6674" y="3794"/>
                </a:moveTo>
                <a:lnTo>
                  <a:pt x="20687" y="10800"/>
                </a:lnTo>
                <a:lnTo>
                  <a:pt x="6674" y="17806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>
            <a:hlinkClick r:id="" action="ppaction://hlinkshowjump?jump=nextslide"/>
          </p:cNvPr>
          <p:cNvSpPr/>
          <p:nvPr/>
        </p:nvSpPr>
        <p:spPr>
          <a:xfrm>
            <a:off x="73915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2514600" y="1371600"/>
            <a:ext cx="3886200" cy="40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3657600" y="2666880"/>
            <a:ext cx="1981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962520" y="3048120"/>
            <a:ext cx="137160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3886200" y="3276720"/>
            <a:ext cx="1523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886200" y="3657600"/>
            <a:ext cx="1371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4114800" y="388620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4191120" y="3962520"/>
            <a:ext cx="914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219320" y="12952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apez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Monotype Corsiva"/>
              </a:rPr>
              <a:t>TRAPEZ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ierwszą rzeczą, od której zaczniemy nasze rozważania będą własności figur zwanych trapezami, a więc: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TRAPEZY mają co najmniej jedną parę boków równoległych . Te boki nazywamy podstawami ,pozostałe to rami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nextslide"/>
          </p:cNvPr>
          <p:cNvSpPr/>
          <p:nvPr/>
        </p:nvSpPr>
        <p:spPr>
          <a:xfrm>
            <a:off x="73152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1600" y="4876920"/>
            <a:ext cx="1219320" cy="1066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66880" y="4952880"/>
            <a:ext cx="1752840" cy="99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6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7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12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27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>
            <a:hlinkClick r:id="" action="ppaction://hlinkshowjump?jump=nextslide"/>
          </p:cNvPr>
          <p:cNvSpPr/>
          <p:nvPr/>
        </p:nvSpPr>
        <p:spPr>
          <a:xfrm>
            <a:off x="73915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724120" y="465120"/>
            <a:ext cx="34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00"/>
                </a:solidFill>
                <a:latin typeface="Monotype Corsiva"/>
              </a:rPr>
              <a:t>TRAPEZ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160020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W dowolnym trapezie suma knotów przy każdym ramieniu jest równa 180\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5800" y="30481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Twierdzeni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odcinek łączący środki ramion jest równoległy do podstaw trapezu i jego długości jest połowa sumy długości podst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914400" y="685800"/>
            <a:ext cx="58672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895480" y="1066680"/>
            <a:ext cx="41911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52680" y="1676520"/>
            <a:ext cx="3124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3809880" y="1905120"/>
            <a:ext cx="27432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3886200" y="1981080"/>
            <a:ext cx="2590920" cy="24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4038480" y="1828800"/>
            <a:ext cx="2210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3962520" y="2133720"/>
            <a:ext cx="1904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3962520" y="2133720"/>
            <a:ext cx="1981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3886200" y="2514600"/>
            <a:ext cx="1371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4191120" y="2209680"/>
            <a:ext cx="1447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4443480" y="2362320"/>
            <a:ext cx="966600" cy="14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4448160" y="2362320"/>
            <a:ext cx="885960" cy="14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4505400" y="2590920"/>
            <a:ext cx="60012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990720" y="1447920"/>
            <a:ext cx="69339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ównoległobok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WordArt 21"/>
          <p:cNvSpPr txBox="1"/>
          <p:nvPr/>
        </p:nvSpPr>
        <p:spPr>
          <a:xfrm>
            <a:off x="4452840" y="2438280"/>
            <a:ext cx="11098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438280" y="4572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00"/>
                </a:solidFill>
                <a:latin typeface="Monotype Corsiva"/>
              </a:rPr>
              <a:t>Równoległobok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7200" y="1143000"/>
            <a:ext cx="8305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są to czworokąty wiążące dwie pary bokó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86600" y="1676520"/>
            <a:ext cx="1752480" cy="914400"/>
          </a:xfrm>
          <a:prstGeom prst="parallelogram">
            <a:avLst>
              <a:gd name="adj" fmla="val 479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18288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Twierdzen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długości przeciwległych boków są rów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rzeciwległe kąty równoległoboków są rów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rzekątne dzielą się na poł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Suma knotów przy tym samym boku wynosi 180|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2590920" y="-380880"/>
            <a:ext cx="396216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895480" y="2057400"/>
            <a:ext cx="3200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666880" y="2362320"/>
            <a:ext cx="28195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2895480" y="2819520"/>
            <a:ext cx="2057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971800" y="2881440"/>
            <a:ext cx="1700280" cy="29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3200400" y="2881440"/>
            <a:ext cx="15238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2438280"/>
            <a:ext cx="1295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3048120" y="3276720"/>
            <a:ext cx="1600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971800" y="2438280"/>
            <a:ext cx="170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2895480" y="2881440"/>
            <a:ext cx="18147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066680" y="0"/>
            <a:ext cx="71629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stokąt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057400" y="38088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Monotype Corsiva"/>
              </a:rPr>
              <a:t>PROSTOKA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295280"/>
            <a:ext cx="9144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Prostokąt ma wszystkie właściwości równoległoboku a ponadto jego przekątne są równe . Równoległobok mając boki równej długości nazywamy rom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Romb ma wszystkie właściwości równoległoboku a ponad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1)przekątne są dwusiecznymi kątów wewnętrznych rombu 2)przekątne ś prostopadł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838080" y="4876920"/>
            <a:ext cx="205740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733920" y="4724280"/>
            <a:ext cx="2057400" cy="15242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na Kargol</dc:creator>
  <dc:description/>
  <dc:language>en-US</dc:language>
  <cp:lastModifiedBy>Hanna Kargol</cp:lastModifiedBy>
  <dcterms:modified xsi:type="dcterms:W3CDTF">2009-08-06T17:19:27Z</dcterms:modified>
  <cp:revision>7</cp:revision>
  <dc:subject/>
  <dc:title>PowerPoint Presentation</dc:title>
</cp:coreProperties>
</file>